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2.png" ContentType="image/png"/>
  <Override PartName="/ppt/media/image1.jpeg" ContentType="image/jpeg"/>
  <Override PartName="/ppt/media/image22.jpeg" ContentType="image/jpeg"/>
  <Override PartName="/ppt/media/image17.jpeg" ContentType="image/jpeg"/>
  <Override PartName="/ppt/media/image3.png" ContentType="image/png"/>
  <Override PartName="/ppt/media/image4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95DE6-44EB-4F6D-A250-2F4C0EBB6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1A7D7-5A2F-4D45-AB39-0FBC890AB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F0065-43B4-43F8-8478-C2418040C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D71EF-26C4-408C-9655-09FC3F784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69587-CC1B-4C2B-B207-262DCB9C5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313CF-09E7-4E30-A9AE-2B8B6BA17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C1EF3-FC79-41EE-B1CB-421E12030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91D39-423B-404F-B469-2055DB56A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47B3A-55FA-4A1E-A459-171A759AD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89EF2-E4BC-411C-80C7-9179AC51C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78191-6149-45FC-9D5B-AB1A32AF9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A9678-9482-469C-ACB1-F2E6B539B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FB7A8-7F0A-4063-8BA5-7A058D1CD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4280E-D4C6-4313-9467-99C4C33FF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EBDAA-CDE4-46A9-90BB-81A3B0B6E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FDB0E-689F-4837-BAFA-ABCF6B2DF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8A523-4CE0-473D-ABB3-E977AE592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DC2AD2-E4A0-458E-A877-D3517BE77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47A171-E4AA-4BD1-8CBB-4B067257C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DA649D-08B2-4229-9A4F-662EE5A77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50E3DC-0C93-44FB-B2F6-746322AA4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2B29ED-C6DE-4F32-BD37-0F72E0FFA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55516-9F8E-422F-8D84-290DECBE8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4DD29A-07A4-4F25-94AF-D1AC50A03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02133B-43F2-42D7-BBE5-BBCA9540C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C9EFB9-B44C-41E6-AC04-128E2645C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93C2E0-C8C0-49AB-8291-0DEF307BC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4325CB-45FE-4E45-BB79-AFAB19CE4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8818C2-B0B5-49CC-871E-0AF4DB25A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469280-65FB-4A42-913A-6BCA707C0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0FB5E8-B730-4470-ACC3-4EF1C0971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57FBD1-87A0-4A23-A9A8-3E70C228D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A57F0F-9B98-41A7-BC82-4BAD83253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B0624-5E6C-4B84-9713-2FB06B808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C4F32A-8161-4079-A7FD-F190EC155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54E354-79CF-4C37-B804-13B0DDF6F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D72D9A-5057-4BF5-83CC-485EF7E33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F98790-46F0-4645-BF18-541A9B2D2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C902B1-D5F5-4AF8-B927-1C0DE86C1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944F49-7F82-4DE1-B6EC-3B69C3858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1D7F9B-7B7B-40A9-8A76-0AC469659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7E8637-6762-4DEB-82DB-EF7614196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E06CE1-9DE4-493B-949C-5CABCA8F2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B4927A-4973-4FBB-9B1B-AA9921337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34B3F-67F9-4E5A-B5D6-47BD86DEF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B69A69-356F-4259-A487-DBAD83E40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F4277E-7DC1-43E4-885A-FB283840D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BC27B4-25BC-43AD-A8AC-1631DBC8F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0118B5-A0FC-40F6-8EF3-E296D1CBC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1AE566-91AE-4783-A421-9C7DB6C69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7099B3-3314-4E59-B751-1F152B65C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048BEF-C126-4300-AA37-A4B84CEA3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4454F4-5F44-4217-A2AC-C787D755D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5C9842-252C-4815-8992-AC486EF67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47B015-6B2B-4894-9477-2B2B65EB3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758C1-7066-49E6-B53D-734B7BD0B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BE5E5D-ECA4-4AD4-8041-3EEED3A4F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CBF658-AB30-4872-83C5-A0B37F314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7A11F3-129B-4E0B-BA0A-3F3441325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0C1A4C-CE43-4EEA-AA17-097AED47B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CBA7F4-7CF1-4EA8-AD95-70CCD1004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A1F192-318C-4DCC-996A-521F70180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147A8C-9FEB-4D43-9CB0-B5B432507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8E092D-7DF6-4EBD-BC50-BB9C30F73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08153F-E1C5-4244-AC9A-E5F1BA450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008B63-77AE-4962-8F28-22A3522FB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90989-E2EF-4ECA-A8B9-82537B7BA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260A5E-C461-4456-B36C-FC0726384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B76933-817A-4859-ABB9-951393F03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EECCC9-E920-430B-8A3C-61B388255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55BF44-CC8E-49EF-AF6A-9CF8F4968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C219E0-3BED-4235-B7D2-873977EF2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58980D-C98C-4CAC-A1D2-1636A49A6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028B86-4E04-462B-A5A2-AE8F591E6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8929AC-2A39-4F87-BA35-CBB2158A3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9D6E8F-CBF3-4165-A646-C200B531B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0D5362-5491-4FF0-A9AB-BB7B45FB6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0F108-E100-4E53-B655-395BB6B8D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9C22E7-B193-4AA4-895A-2E5D595A8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0A3397-63EA-4791-95B1-FE521B1A2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2E164A-DE63-4B07-A4C0-0ACB24DBE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B4E70F-2956-40AB-8CFF-6BDBD4042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72E35F-FCC9-4374-82C8-A5471203A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565AD-B040-4C30-9034-05BA2DB41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7CC86-E557-45BF-995C-0B9C37EB2494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6F7CC-9143-4C0A-A7D2-04D92A12253C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11E6C-B2B6-46A9-8AB0-C6EB202FCD15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6055B-DA7D-4C18-A882-562DA1F2965B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F5D7E-F4E8-4765-9D65-58AC902CE49A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B4B20-38EA-4457-A2AD-3266AD67D8E6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6B78F-490E-46BD-8660-CA4CE9404F6F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Построение аксонометрических проекций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431720" y="1848960"/>
            <a:ext cx="7407000" cy="17528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20e04"/>
                </a:solidFill>
                <a:latin typeface="Corbel"/>
              </a:rPr>
              <a:t>(С) Озеркова Ирина Александровна, 2009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Изометрическая проекция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41" name="Содержимое 3" descr="9-9.jpg"/>
          <p:cNvPicPr/>
          <p:nvPr/>
        </p:nvPicPr>
        <p:blipFill>
          <a:blip r:embed="rId1"/>
          <a:stretch/>
        </p:blipFill>
        <p:spPr>
          <a:xfrm>
            <a:off x="1214280" y="1428840"/>
            <a:ext cx="3113280" cy="4800600"/>
          </a:xfrm>
          <a:prstGeom prst="rect">
            <a:avLst/>
          </a:prstGeom>
          <a:ln w="0">
            <a:noFill/>
          </a:ln>
        </p:spPr>
      </p:pic>
      <p:pic>
        <p:nvPicPr>
          <p:cNvPr id="342" name="Рисунок 4" descr="9-10.jpg"/>
          <p:cNvPicPr/>
          <p:nvPr/>
        </p:nvPicPr>
        <p:blipFill>
          <a:blip r:embed="rId2"/>
          <a:stretch/>
        </p:blipFill>
        <p:spPr>
          <a:xfrm>
            <a:off x="5072040" y="1500120"/>
            <a:ext cx="2646360" cy="2357640"/>
          </a:xfrm>
          <a:prstGeom prst="rect">
            <a:avLst/>
          </a:prstGeom>
          <a:ln w="0">
            <a:noFill/>
          </a:ln>
        </p:spPr>
      </p:pic>
      <p:pic>
        <p:nvPicPr>
          <p:cNvPr id="343" name="Рисунок 5" descr="9-11.jpg"/>
          <p:cNvPicPr/>
          <p:nvPr/>
        </p:nvPicPr>
        <p:blipFill>
          <a:blip r:embed="rId3"/>
          <a:stretch/>
        </p:blipFill>
        <p:spPr>
          <a:xfrm>
            <a:off x="5072040" y="3857760"/>
            <a:ext cx="2639880" cy="247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2577960" y="260028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4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572314"/>
                </a:solidFill>
                <a:latin typeface="Corbel"/>
              </a:rPr>
              <a:t>ПОСТРОЕНИЕ АКСОНОМЕТРИЧЕСКИХ ПРОЕКЦИЙ ПЛОСКИХ ФИГУР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2577960" y="1066680"/>
            <a:ext cx="640080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320e04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Проекции на горизонтальную плоскость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47" name="Содержимое 3" descr="9-12.jpg"/>
          <p:cNvPicPr/>
          <p:nvPr/>
        </p:nvPicPr>
        <p:blipFill>
          <a:blip r:embed="rId1"/>
          <a:stretch/>
        </p:blipFill>
        <p:spPr>
          <a:xfrm>
            <a:off x="3857760" y="857160"/>
            <a:ext cx="4000320" cy="570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Проекции на фронтальную плоскость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49" name="Содержимое 3" descr="9-13.jpg"/>
          <p:cNvPicPr/>
          <p:nvPr/>
        </p:nvPicPr>
        <p:blipFill>
          <a:blip r:embed="rId1"/>
          <a:stretch/>
        </p:blipFill>
        <p:spPr>
          <a:xfrm>
            <a:off x="3929040" y="857160"/>
            <a:ext cx="3929040" cy="574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77960" y="260028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4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72314"/>
                </a:solidFill>
                <a:latin typeface="Corbel"/>
              </a:rPr>
              <a:t>АКСОНОМЕТРИЧЕСКИЕ ПРОЕКЦИИ ПЛОСКИХ ТЕЛ</a:t>
            </a: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2577960" y="1066680"/>
            <a:ext cx="640080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320e04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Порядок построения проекции плоской фигуры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Построить оси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Выбрать грань, являющуюся основанием (чаще переднюю или нижнюю)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Построить выбранную грань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Провести отрезки прямых, параллельные осям координат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Построить остальные грани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Удалить лишние линии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Обвести контур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Нанести размеры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Построить аксонометрические проекции шаблона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55" name="Содержимое 3" descr="9-14.jpg"/>
          <p:cNvPicPr/>
          <p:nvPr/>
        </p:nvPicPr>
        <p:blipFill>
          <a:blip r:embed="rId1"/>
          <a:stretch/>
        </p:blipFill>
        <p:spPr>
          <a:xfrm>
            <a:off x="2438280" y="1447920"/>
            <a:ext cx="54928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577960" y="260028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4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72314"/>
                </a:solidFill>
                <a:latin typeface="Corbel"/>
              </a:rPr>
              <a:t>АКСОНОМЕТРИЧЕСКИЕ ПРОЕКЦИИ ОКРУЖНОСТИ</a:t>
            </a: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577960" y="1066680"/>
            <a:ext cx="640080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320e04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 txBox="1"/>
          <p:nvPr/>
        </p:nvSpPr>
        <p:spPr>
          <a:xfrm>
            <a:off x="1143000" y="28548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80800" indent="-217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Аксонометрической проекцией окружности является </a:t>
            </a: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эллипс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– плоская кривая, являющаяся геометрическим местом точек, сумма расстояний от каждой из которых до двух фиксированных точек, называемых фокусами, постоянна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280800" indent="-217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На практике вместо эллипса строят </a:t>
            </a: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овал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– замкнутую линию, ограниченную дугами окружностей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280800" indent="-217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ри построении аксонометрических проекций овалы вписывают в ромбы, являющиеся </a:t>
            </a: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проекциями квадратов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Изображение окружностей, вписанных в куб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60" name="Содержимое 3" descr="9-15.jpg"/>
          <p:cNvPicPr/>
          <p:nvPr/>
        </p:nvPicPr>
        <p:blipFill>
          <a:blip r:embed="rId1"/>
          <a:stretch/>
        </p:blipFill>
        <p:spPr>
          <a:xfrm>
            <a:off x="1285920" y="2000160"/>
            <a:ext cx="7418520" cy="38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2577960" y="260028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4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72314"/>
                </a:solidFill>
                <a:latin typeface="Corbel"/>
              </a:rPr>
              <a:t>ПОНЯТИЕ АКСОНОМЕТРИЧЕСКОЙ ПРОЕКЦИИ</a:t>
            </a: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2577960" y="1066680"/>
            <a:ext cx="640080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320e04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Горизонтальная проекция окружности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62" name="Содержимое 3" descr="9-16.jpg"/>
          <p:cNvPicPr/>
          <p:nvPr/>
        </p:nvPicPr>
        <p:blipFill>
          <a:blip r:embed="rId1"/>
          <a:stretch/>
        </p:blipFill>
        <p:spPr>
          <a:xfrm>
            <a:off x="4500720" y="928800"/>
            <a:ext cx="3929040" cy="56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Фронтальная и профильная проекция окружности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64" name="Содержимое 3" descr="9-17.jpg"/>
          <p:cNvPicPr/>
          <p:nvPr/>
        </p:nvPicPr>
        <p:blipFill>
          <a:blip r:embed="rId1"/>
          <a:stretch/>
        </p:blipFill>
        <p:spPr>
          <a:xfrm>
            <a:off x="3524400" y="1447920"/>
            <a:ext cx="3619440" cy="523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2577960" y="260028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4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572314"/>
                </a:solidFill>
                <a:latin typeface="Corbel"/>
              </a:rPr>
              <a:t>АКСОНОМЕТРИЧЕСКИЕ ПРОЕКЦИИ ПРЕДМЕТОВ, ИМЕЮЩИХ КРУГЛЫЕ ПРОЕКЦИИ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2577960" y="1066680"/>
            <a:ext cx="640080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320e04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Построить аксонометрические проекции детали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68" name="Содержимое 3" descr="9-18.jpg"/>
          <p:cNvPicPr/>
          <p:nvPr/>
        </p:nvPicPr>
        <p:blipFill>
          <a:blip r:embed="rId1"/>
          <a:stretch/>
        </p:blipFill>
        <p:spPr>
          <a:xfrm>
            <a:off x="2500200" y="1368360"/>
            <a:ext cx="5786640" cy="534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Аксонометрическая проекция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– наглядное изображение, полученное методом параллельного проецирования по координатным осям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Axcon</a:t>
            </a:r>
            <a:r>
              <a:rPr b="0" lang="de-DE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– ось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Metreo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- измерение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Получение аксонометрической проекции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25" name="Содержимое 5" descr="9-1.jpg"/>
          <p:cNvPicPr/>
          <p:nvPr/>
        </p:nvPicPr>
        <p:blipFill>
          <a:blip r:embed="rId1"/>
          <a:stretch/>
        </p:blipFill>
        <p:spPr>
          <a:xfrm>
            <a:off x="3108240" y="1467000"/>
            <a:ext cx="4392720" cy="50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Виды аксонометрических проекций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Косоугольная фронтальная диметрическая проекция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рямоугольная изометрическая проекция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Фронтальная диметрическая проекция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29" name="Содержимое 3" descr="9-2.jpg"/>
          <p:cNvPicPr/>
          <p:nvPr/>
        </p:nvPicPr>
        <p:blipFill>
          <a:blip r:embed="rId1"/>
          <a:stretch/>
        </p:blipFill>
        <p:spPr>
          <a:xfrm>
            <a:off x="1143000" y="1428840"/>
            <a:ext cx="5715000" cy="3047760"/>
          </a:xfrm>
          <a:prstGeom prst="rect">
            <a:avLst/>
          </a:prstGeom>
          <a:ln w="0">
            <a:noFill/>
          </a:ln>
        </p:spPr>
      </p:pic>
      <p:pic>
        <p:nvPicPr>
          <p:cNvPr id="330" name="Рисунок 4" descr="9-4.jpg"/>
          <p:cNvPicPr/>
          <p:nvPr/>
        </p:nvPicPr>
        <p:blipFill>
          <a:blip r:embed="rId2"/>
          <a:stretch/>
        </p:blipFill>
        <p:spPr>
          <a:xfrm>
            <a:off x="6429240" y="4336920"/>
            <a:ext cx="2438640" cy="22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Изометрическая проекция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32" name="Содержимое 3" descr="9-3.jpg"/>
          <p:cNvPicPr/>
          <p:nvPr/>
        </p:nvPicPr>
        <p:blipFill>
          <a:blip r:embed="rId1"/>
          <a:stretch/>
        </p:blipFill>
        <p:spPr>
          <a:xfrm>
            <a:off x="2000160" y="1357200"/>
            <a:ext cx="2063880" cy="4800600"/>
          </a:xfrm>
          <a:prstGeom prst="rect">
            <a:avLst/>
          </a:prstGeom>
          <a:ln w="0">
            <a:noFill/>
          </a:ln>
        </p:spPr>
      </p:pic>
      <p:pic>
        <p:nvPicPr>
          <p:cNvPr id="333" name="Рисунок 4" descr="9-5.jpg"/>
          <p:cNvPicPr/>
          <p:nvPr/>
        </p:nvPicPr>
        <p:blipFill>
          <a:blip r:embed="rId2"/>
          <a:stretch/>
        </p:blipFill>
        <p:spPr>
          <a:xfrm>
            <a:off x="4643280" y="2500200"/>
            <a:ext cx="4040280" cy="37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2577960" y="260028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4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72314"/>
                </a:solidFill>
                <a:latin typeface="Corbel"/>
              </a:rPr>
              <a:t>ПРИЁМЫ ПОСТРОЕНИЯ ОСЕЙ</a:t>
            </a: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2577960" y="1066680"/>
            <a:ext cx="640080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320e04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Фронтальная диметрическая проекция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37" name="Содержимое 3" descr="9-6.jpg"/>
          <p:cNvPicPr/>
          <p:nvPr/>
        </p:nvPicPr>
        <p:blipFill>
          <a:blip r:embed="rId1"/>
          <a:stretch/>
        </p:blipFill>
        <p:spPr>
          <a:xfrm>
            <a:off x="1428840" y="1643040"/>
            <a:ext cx="3008160" cy="4800600"/>
          </a:xfrm>
          <a:prstGeom prst="rect">
            <a:avLst/>
          </a:prstGeom>
          <a:ln w="0">
            <a:noFill/>
          </a:ln>
        </p:spPr>
      </p:pic>
      <p:pic>
        <p:nvPicPr>
          <p:cNvPr id="338" name="Рисунок 4" descr="9-7.jpg"/>
          <p:cNvPicPr/>
          <p:nvPr/>
        </p:nvPicPr>
        <p:blipFill>
          <a:blip r:embed="rId2"/>
          <a:stretch/>
        </p:blipFill>
        <p:spPr>
          <a:xfrm>
            <a:off x="5214960" y="1643040"/>
            <a:ext cx="2714760" cy="2360520"/>
          </a:xfrm>
          <a:prstGeom prst="rect">
            <a:avLst/>
          </a:prstGeom>
          <a:ln w="0">
            <a:noFill/>
          </a:ln>
        </p:spPr>
      </p:pic>
      <p:pic>
        <p:nvPicPr>
          <p:cNvPr id="339" name="Рисунок 5" descr="9-8.jpg"/>
          <p:cNvPicPr/>
          <p:nvPr/>
        </p:nvPicPr>
        <p:blipFill>
          <a:blip r:embed="rId3"/>
          <a:stretch/>
        </p:blipFill>
        <p:spPr>
          <a:xfrm>
            <a:off x="5214960" y="4071960"/>
            <a:ext cx="271476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7T00:41:28Z</dcterms:created>
  <dc:creator>Sergey A. Filimonov</dc:creator>
  <dc:description/>
  <dc:language>en-US</dc:language>
  <cp:lastModifiedBy>Sergey A. Filimonov</cp:lastModifiedBy>
  <dcterms:modified xsi:type="dcterms:W3CDTF">2009-10-24T01:40:49Z</dcterms:modified>
  <cp:revision>17</cp:revision>
  <dc:subject/>
  <dc:title>Построение аксонометрических проекций</dc:title>
</cp:coreProperties>
</file>