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702-1F4F-49A3-9FCE-AC40D3BE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40E-6BF1-4026-8EEC-0DBD7463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902-8628-493D-9D4A-73A52385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B9A-3F43-46F3-90DE-889D2B21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8629-3CAD-4EF8-90AF-58800FB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93B6-65A1-404B-96DC-7B953637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877C-6BDC-4E61-9606-22C9823D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D1B2-D24D-41BA-BF71-85C31F6E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C1FA-74F8-4599-A3B8-7CF7A7C8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5B6C-7F7E-457B-ACCC-6634632F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AD97-ED02-4247-8121-6E5C1136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BA3-1D23-4A26-B330-4E1C3A2C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D2E8-952C-4DE8-902F-5A840CF9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30C0-CD97-417C-AA6D-81033C78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A4B5-94D8-4D31-A6EA-C807ABDD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0702-F2DE-46DE-97A9-98399EE2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C75C-4E30-482D-B65B-F5FE39E4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BC72-59F9-49AB-9957-A79C1CD2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92AF-EEBE-4D8C-8A92-2DB39E8E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6D7D-6D07-45CD-B3CA-F3E8284E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A8B4-ACA0-4362-B0B3-69671686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E7C0-9642-42BE-937D-84A95620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77B-C5B7-42AE-8D79-1EEEE032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F512-38AF-468F-B830-EC8FDBF9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ACA2-D1AA-4599-AC41-C22A0D6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D981-716B-4129-B1FD-C0D9AD37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440E-1798-48B3-BC55-0BC059F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AB97-1069-4CE1-91D7-3B5EE4BE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C95C-574C-4EEA-A1C5-B3E3CF0D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1BCB-EC87-4007-ACAC-0476B585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0CB1-D753-4B6D-842F-E98B58BC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4E43D-D0A0-4F28-941D-4A566A7D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4FB3-32B0-4A62-B8C1-7D2F40F1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839-5C6A-4474-8E21-CE142A26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7F97-8B43-494B-920C-6DEED85A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AE3D-6284-4737-BD8A-2BAB491F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AF19-4C26-4D65-B51B-47CC76DA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8547-8FFD-4355-AED8-803C8B93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C663-1C49-46DD-B1A1-10FCCF98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DD2A-D158-4D63-8792-70F5F7D8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0FEAF-C5A7-4995-90AB-272E7D4C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E14C-B205-450A-A333-08B8A718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DE43D-802B-4E36-B293-98FFBA76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BD06D-934E-4471-AE2F-1676B6E8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8E2-FF41-493E-A7F8-2464AC31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D3C29-4927-4505-9D46-6998A63B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D68A-7C34-4F51-BDB3-398BE333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34C78-56EB-4DD4-B3B0-0F86CF01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3F889-42E9-4FF0-94F9-388BF29E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9BF9-79EA-4A16-8CB8-6028D22E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4B88-0B67-4FE9-A26A-8258D62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AD617-64E5-4DA0-A0D6-EC1AECB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51EDD-E208-4B48-8AA7-18A4361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5FF2C-BE57-4A3A-97BF-A0990474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ACCE5-CF85-446F-BDA7-4B0CA9B0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68F-A7FC-41E7-AF66-8101455B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692EB-B780-4426-9599-93BAAE62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70624-D845-4A17-B9EE-D6C2C69A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0CE7-2BF7-42B4-A71F-5776FC12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8CA39-21A0-42B6-AC85-D87F8E0A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E120-3268-42E6-AD80-00FEA45B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16C5-CF1A-48E4-848D-5C477BFF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8D4F0-8157-4858-8106-1D24FB30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31A8F-F94E-4CEB-B21D-AAF11B4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F7B9-F9BD-42BD-9B3F-0C006991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2D15-3BCD-47EF-88BF-5409711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148-BA05-40B6-BB46-85AF36D5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071F-C97B-4DF7-8F79-5E26EC0E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A8711-3404-48C2-82D2-A0C6B00B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EB117-CD40-4B1A-A0A9-A22DCD87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F5C5-BF72-4562-ACEC-03F7467E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C13CE-757D-46ED-A0BD-4BB7A091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3A2E1-31EB-450E-8D0B-0DA1A5B0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94A0-6FFA-4CD9-B5D1-FD3EBF59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83DA0-B5E4-4DAE-A951-2D14CD83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DEA5-6C93-46C9-AE20-FE2A7482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A51B-04D2-4280-9F38-CC332317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6CD-69BB-498E-A774-A9488F2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EB82D-E80A-4108-9793-E1B7D37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F9E01-5991-41C7-98A7-1825896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64B39-2CEF-4DDA-93AC-B8D2CFD0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066E-7466-43B8-AC2A-045D44D1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0E0C1-A54A-4CEE-B509-6AE38FA7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DB9-944D-4F6C-A42F-09CD671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DAF5-8839-475C-8178-AC200D013C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B2B7-8C11-4B25-B5FC-B5E51EFBBD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9D17-027A-492E-8F23-E35F1637DF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5E9C-7DEB-4094-ABF0-3C638B02EF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9099-40A7-40DD-89F6-D6C0A6C430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6666-5D31-46D1-B1D2-61507846EE4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0AAF-C2B8-4660-B16E-1FAFB68F96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на чертеж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стный вид в проекционной связ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8-2.jpg"/>
          <p:cNvPicPr/>
          <p:nvPr/>
        </p:nvPicPr>
        <p:blipFill>
          <a:blip r:embed="rId1"/>
          <a:stretch/>
        </p:blipFill>
        <p:spPr>
          <a:xfrm>
            <a:off x="1522440" y="1571760"/>
            <a:ext cx="65199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стный вид на свободном пол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Содержимое 3" descr="8-3.jpg"/>
          <p:cNvPicPr/>
          <p:nvPr/>
        </p:nvPicPr>
        <p:blipFill>
          <a:blip r:embed="rId1"/>
          <a:stretch/>
        </p:blipFill>
        <p:spPr>
          <a:xfrm>
            <a:off x="2327400" y="1704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ОРЯДОК ПОСТРОЕНИЯ ЧЕРТЕЖ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142640" y="357120"/>
            <a:ext cx="7497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нализ формы и размеров изображаемого изделия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пределение масштаб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пределение количества и состава видов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пределение расположения лист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строение осей симметри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строение габаритных прямоугольников для каждого вид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строение видов в порядке: главный вид, вид сверху, вид слева, местные виды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троение контура изображ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троение видимых вырезов (сначала прямоугольной формы, потом округлых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троение невидимых вырез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авление размер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полнение основной надпис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АКТИЧЕСКАЯ РАБОТА «ЧЕРТЁЖ ДЕТАЛИ В ТРЁХ ВИДАХ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3" descr="8-4.jpg"/>
          <p:cNvPicPr/>
          <p:nvPr/>
        </p:nvPicPr>
        <p:blipFill>
          <a:blip r:embed="rId1"/>
          <a:stretch/>
        </p:blipFill>
        <p:spPr>
          <a:xfrm>
            <a:off x="1012680" y="1785960"/>
            <a:ext cx="7891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ВИДЫ И ИХ РАСПОЛОЖЕНИ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ви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ид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изображение обращённой к наблюдателю видимой части поверхности предме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видах допускается показывать необходимые невидимые части при помощи штриховых линий. На видах также применяют некоторые условности и упрощ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звания вид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ид спереди – главный вид, размещается на месте фронтальной проекци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ид сверху размещается на месте горизонтальной проекци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ид слева размещается на месте профильной проекци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ид спра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ид сниз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ид сзад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сположение основных ви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Рисунок 3" descr="8-1.jpg"/>
          <p:cNvPicPr/>
          <p:nvPr/>
        </p:nvPicPr>
        <p:blipFill>
          <a:blip r:embed="rId1"/>
          <a:stretch/>
        </p:blipFill>
        <p:spPr>
          <a:xfrm>
            <a:off x="1714680" y="1285920"/>
            <a:ext cx="6858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колько видов надо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используемых видов должно быть минимальн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школе используют вид спереди, вид сверху и вид сле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МЕСТНЫЕ ВИД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местного ви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стны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ид – изображение отдельного, ограниченного места поверхности предме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стный вид может быть ограничен линией обрыва или осью симметр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местном виде допускается проставлять разме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сположение местного ви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роекционной связи с другими изображения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свободном поле чертеж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4:40:19Z</dcterms:created>
  <dc:creator>Sergey A. Filimonov</dc:creator>
  <dc:description/>
  <dc:language>en-US</dc:language>
  <cp:lastModifiedBy>Sergey A. Filimonov</cp:lastModifiedBy>
  <dcterms:modified xsi:type="dcterms:W3CDTF">2009-10-13T16:40:06Z</dcterms:modified>
  <cp:revision>9</cp:revision>
  <dc:subject/>
  <dc:title>Виды на чертеже</dc:title>
</cp:coreProperties>
</file>