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B1E-D807-4F0E-B060-1C5E813A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525-9E4F-44FE-BECD-A672DD3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C61-B69C-452E-9477-44DCF4DF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EB2-E183-494A-83EB-3C5DB442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DA4-7F06-4F0D-89C5-EF5FA60F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9172-AB1B-46A8-9388-0CD02D24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E4F-CBFA-4012-9FC3-D003E16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E563-9600-4800-90E1-C09578E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235-28C6-4CFE-A48B-74C4B69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42B-94BE-4AC1-BB29-B6B201ED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2CD-5CFA-4F97-9CD9-8F9E169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8B-89FF-4002-A11E-33F39D3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275-4013-4973-BF80-EA16B68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865-0692-420B-842D-CC75EBF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548-2FFB-4D69-AEDC-A6D07A7D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E05-F115-4995-888E-4897A4AD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A294-A7A5-44B2-93DA-7A2B41CB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A4DF-F95E-4886-A6B9-4FD45320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2353-D05C-4B6A-8562-B36ADE88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26DE-D69D-46E8-86A4-770A3C11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AB15-EAEE-4CA0-899A-451472E5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3788-6F84-4FE8-B4EA-179DB02F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EF5-023E-4C1A-8202-7349A5A3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A6C0-557F-46F9-B5D6-6E9EEB4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7E15-08A0-48BC-9C6C-335A58B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2B47-EC46-400C-802A-57607B9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9AC8-EB8A-4004-92FA-09A71FA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7055-96FE-4866-8A67-382A53F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4454-EAFC-42B1-9481-112647A3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6906-21E2-4601-A0A7-98C8FD84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6C42-AB55-43BC-BFEF-A71C6CBB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8105-C612-4BBA-94DA-E9BE9B58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9451-A66A-413F-81BA-6323000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D60-A9E8-40A6-85F4-A5814B9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C0F2-361B-4DC1-891C-DA802F4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C8AF-7D99-4596-9B8D-CF9D61B2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A4FC-9F9D-4A08-A718-3DD3A01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F221-FF96-412A-A629-1B0DEE2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8305-84D6-4718-B75F-85EBC23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25DE-0D60-478A-A613-9D51DF6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A73E-B4EA-4FE0-95DA-12378116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DE8C-0395-4A35-BBCD-80546D3F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6318-D937-45BD-B8DB-6E11903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1539-12EF-41FE-86F5-4321CB3B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A3D-8DE7-4C1F-AB82-43F08FF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F3FB-A2B7-4E65-8014-7B059844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74F3-370D-4889-BFD1-3A2B7EB2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33AF-C8C8-4532-A7C6-06F2F19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C751-F05A-4BA0-BBAB-82E5022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8984-B0EF-437A-9A9F-F7BC3EB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B72C2-3B03-4B3A-B832-BC1D136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A616-1114-4DAF-A59B-043696D4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36397-4D1F-47A2-B86B-4CF8EC0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6BAC-3F44-436A-BEFC-04BF10BB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9104-D19F-4C01-8CE9-E9EB1C6C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BD8-DF2A-4A3E-9F5C-5954E2E1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ECA6-01DF-43AF-AC9E-4A318128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0530-B387-44E4-A571-E663547C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E184-6D1D-4F0F-98AE-34805D9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B6CE-19EF-461D-9A5E-64998F8A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F23B-EC36-4FDE-816D-55EF5DA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831D-68B3-4E5D-BF08-F25BAB8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4694-F7BD-474A-8F52-CF688ED2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D416-8E6D-45C3-9BDE-7AF1E30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7D5AA-9553-4D77-B330-D755779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404B-BF03-40AC-A451-3E1D066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442-E42F-4347-BCE1-221E67D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7AB5-6D0C-4E10-8D68-D8781E14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485F-8466-4044-9822-421C8ADD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AFEAC-B31E-46BC-BB39-44BDB444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28E02-77C7-4AFD-8853-F35244F0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641B-6A7F-41F1-9E54-21CCCEB1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5D47-CE83-4B23-B9E0-B79A875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CE17-9E9C-4515-9EFC-5FAD59E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CFF97-9229-4094-9916-06451AB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7E409-B0F8-4A36-B32F-992ED2E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EC40-7D12-4D60-BCFB-1281C24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0BF-59E9-48B3-9F73-9100297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8E91-8D1D-4058-B01A-5331902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8279-DFAB-4284-A538-CFE0EBF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EE16-DF07-410B-B100-7765ED4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93C7-0214-4B3B-BE33-CA4A0EF3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0239-F907-46E9-B1DB-5A4412C3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26A-3FA3-4C86-8C3C-824DD5B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DFA-DE87-419C-8E1F-AA0E9DE76C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CD2C-3BA6-4325-BFB0-80DF21F92F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0D1-E34A-4E58-95A5-4F3ECCB93B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B4D-9EEF-46FC-9355-A8791509CC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881-8927-4B23-A398-267ED3BD7B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9C3F-3758-4B61-9F0B-ADD44CC5EB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6E2C-F3AA-49DC-B060-13DEF75F8B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Привязки. Построение по сетк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Параметры с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7.4.jpg"/>
          <p:cNvPicPr/>
          <p:nvPr/>
        </p:nvPicPr>
        <p:blipFill>
          <a:blip r:embed="rId2"/>
          <a:stretch/>
        </p:blipFill>
        <p:spPr>
          <a:xfrm>
            <a:off x="1590840" y="1285920"/>
            <a:ext cx="63324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Установление привязки к сетк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ажмите кнопку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Установление глобаль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привязок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ставьте ил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нимите галоч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7-5.jpg"/>
          <p:cNvPicPr/>
          <p:nvPr/>
        </p:nvPicPr>
        <p:blipFill>
          <a:blip r:embed="rId2"/>
          <a:stretch/>
        </p:blipFill>
        <p:spPr>
          <a:xfrm>
            <a:off x="4857840" y="1928880"/>
            <a:ext cx="3295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Установление локальной привязк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спользуйте контекстное меню (вызов правой кнопкой мыш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Рисунок 3" descr="7-6.jpg"/>
          <p:cNvPicPr/>
          <p:nvPr/>
        </p:nvPicPr>
        <p:blipFill>
          <a:blip r:embed="rId2"/>
          <a:stretch/>
        </p:blipFill>
        <p:spPr>
          <a:xfrm>
            <a:off x="1928880" y="2571840"/>
            <a:ext cx="6143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orbel"/>
              </a:rPr>
              <a:t>ПРАКТИЧЕСКАЯ РАБОТА «</a:t>
            </a:r>
            <a:r>
              <a:rPr b="1" lang="en-US" sz="3600" spc="-1" strike="noStrike">
                <a:solidFill>
                  <a:srgbClr val="572314"/>
                </a:solidFill>
                <a:latin typeface="Arial"/>
              </a:rPr>
              <a:t>Фронтальная проекция детали</a:t>
            </a:r>
            <a:r>
              <a:rPr b="1" lang="en-US" sz="3600" spc="-1" strike="noStrike">
                <a:solidFill>
                  <a:srgbClr val="572314"/>
                </a:solidFill>
                <a:latin typeface="Corbel"/>
              </a:rPr>
              <a:t>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00720" y="5084640"/>
            <a:ext cx="4133520" cy="1381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48247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Corbel"/>
              </a:rPr>
              <a:t>ПРИВЯЗ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Необходимость привяз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ивязки нужны для точной установки курсора в определённое место чертежа. Привязка производится по отношению к его характерным точк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и срабатывании привязок на экране появляется крест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Виды привяз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Глоба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Локальны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Глобальные привяз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ействуют по умолчани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ействуют постоянно для каждой точ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Можно запрет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анель глобальных привяз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3" descr="7-1.jpg"/>
          <p:cNvPicPr/>
          <p:nvPr/>
        </p:nvPicPr>
        <p:blipFill>
          <a:blip r:embed="rId2"/>
          <a:stretch/>
        </p:blipFill>
        <p:spPr>
          <a:xfrm>
            <a:off x="1857240" y="4071960"/>
            <a:ext cx="5980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Локальные привяз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Задаются для каждой точки по отд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 запоминаю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меют более высокий приоритет, чем глобальные привяз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рабатывание кноп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локальной привяз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7-2.jpg"/>
          <p:cNvPicPr/>
          <p:nvPr/>
        </p:nvPicPr>
        <p:blipFill>
          <a:blip r:embed="rId2"/>
          <a:stretch/>
        </p:blipFill>
        <p:spPr>
          <a:xfrm>
            <a:off x="6877080" y="3573360"/>
            <a:ext cx="19288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Corbel"/>
              </a:rPr>
              <a:t>СЕТК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Необходимость с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етка используется при создании точных чертежей и эскизов для ускорения работы. Наиболее эффективна при одновременном задании привязки к узлам сет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етка не является частью документа и не выводится на печа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каз сетки и привязка к ней задаются независимо друг от дру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крытие/показ с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ля показа/скрытия сетки необходимо нажатие кнопки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Сетк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на панели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Текущее состоя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ам же можно задать параметры сет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Рисунок 3" descr="7-3.jpg"/>
          <p:cNvPicPr/>
          <p:nvPr/>
        </p:nvPicPr>
        <p:blipFill>
          <a:blip r:embed="rId2"/>
          <a:stretch/>
        </p:blipFill>
        <p:spPr>
          <a:xfrm>
            <a:off x="2411280" y="3068640"/>
            <a:ext cx="48578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2:45:49Z</dcterms:created>
  <dc:creator>Sergey A. Filimonov</dc:creator>
  <dc:description/>
  <dc:language>en-US</dc:language>
  <cp:lastModifiedBy>209</cp:lastModifiedBy>
  <dcterms:modified xsi:type="dcterms:W3CDTF">2009-09-30T05:11:33Z</dcterms:modified>
  <cp:revision>9</cp:revision>
  <dc:subject/>
  <dc:title>Привязки. Построение по сетке.</dc:title>
</cp:coreProperties>
</file>