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2B83-5D99-4308-A463-A368960D0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3B8B-9CC6-4CCC-8045-5C3E0A106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0B11-B355-492F-B1F2-C585FBCC7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CD47-F72D-46CB-AECF-F3A3F8416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599BE-DEC7-4BAD-86D2-E1FE19E91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CDF30-7BFC-45CB-93C1-E963735CF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7F8B8-7F2D-4C1E-84AD-82D4AEC32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63A4B-C665-4AFE-9A1C-E50369CCA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41189-A407-41B5-B634-25A6FFB63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9CB7F-683F-4E40-AC0B-B42CE65FC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75DA4-9A3A-4F0F-94D5-0041FA80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89E8-2AD3-4DAB-AE96-D0DB3348F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B2F18-8134-4AF2-92D7-261610B4D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01F23-EECD-4A76-B703-72B3E9C2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72BCC-DECD-4A61-B609-AABD575A4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FC1DD-2B5D-4BCC-98F0-8F945DC5C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4044A-56BC-4ECB-AD44-EC071B26B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4F721-BC1B-4344-A031-A645FBCBF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293FF-4C26-4A7B-AAC2-A11B2A6C3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4C109-609D-4C63-B71A-49A2AFE00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9293E-32B1-4F23-8721-830672D4A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59CD6-CDBD-47AB-AFBF-FD07AB797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A03B-38B9-4E83-AFC2-B82DB2D97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F77F4-F3E0-4F77-82B6-203CAD1D4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5D6B6-3A2E-44D8-8D22-74580C5F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A32C0-4461-4277-8A03-30463B8E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F95F4-14A8-43A6-8F78-E2178C15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54AAF-4A9E-4491-BD28-14A27640B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75CAD-E7A3-41E1-90F5-FC5760E88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E26DB-C0C7-4D5F-BBE0-470C1CFA7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33B57-4E89-4289-8065-F3627FE33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8C4B0-9806-4808-B638-50CD986B1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74BC4-CA7C-457C-A43C-FF29E71C1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E61C-420B-4066-902D-D95F70A65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B16AC-9A55-4595-998B-E397E631E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AEAF1-B74C-4B01-BFCD-1FBBD017F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EEA23-4BF9-4F97-80CC-2053A9B99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41DB6-D365-4AC3-848B-D31B25D3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03D17-CD33-4589-809C-8D5F9DD4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D154C-C58C-469D-89C3-FF84934E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A12EE-3BF2-41A3-85DE-C5D03796B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491CF-AF0F-4B1A-BE52-065A82382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A13A6-51A1-452F-B808-5456AB41E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3D78C-E134-44C0-AC11-0590FBFED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2C6C-5275-4B2D-8B38-8B7BA213F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DE352-41C0-4CF8-AC9C-975758271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9C719-DC00-4392-B1F3-37DF13613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1EBFB-4544-4AD5-808D-37C262753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3A34A-1CDE-4619-BD5A-D0D4E6332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95536-0F54-4E41-A4C1-06FD19169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158A1-5408-488E-AA00-807BB82D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EEFEBC-92C1-46BB-AA10-AEFBA7B8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410E1-313F-4660-ABE5-CC938BB6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D8BD3-BC67-4598-86D5-E307ECF9E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265C9-64FC-4F29-8B10-CEBB04C9F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88FD-06DC-4E5A-9444-442FB91BE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C335F-EC49-475D-B53C-258823716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473D6-5018-4152-9D2E-0CFF04B5C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6F423-3D03-46EF-B4E4-66D81B041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29EF88-4180-435B-8292-184D35A9B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72AAB0-000B-4C56-9F5F-53AE55557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F27DC-20CD-48C5-BC05-FD71F3284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70F48-0186-448C-BBE7-A855E95F4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80CE71-039C-4F4E-B3DB-16AAA5EC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12D4A-3572-41F6-91EC-19F857DA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8CEFC-A2E0-409D-9190-F718D95D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710B-E7F5-461B-8B84-7D848977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0B1F9-5B85-48B5-904C-50B55415A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D0B77-E411-42B9-87E3-8978F7844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648476-947B-462C-A1A6-698F3E5DC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90BDF-6FB3-414F-A256-2CBC56EBE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3C6CE2-780F-4B20-B83C-8E2A2538D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67B3BC-2478-4E5C-8097-299F3AF69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F275F0-5927-487E-A1CA-5A95B342C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D5A331-0751-4A25-B918-5E2DF1280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554086-727D-4F96-9EFF-3A04EC2D9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898E78-D6FF-462F-BF2A-BC3D89E3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883B-7035-43E3-A5C1-73EF8CBD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E59D39-CE72-401A-9C2C-8A061B52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81E5A8-C6EF-4F7F-8B9C-37289AB9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92249-F2B2-49BD-8742-CCEDA4E62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850829-1B15-4CC5-A71F-2DBFB9A77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0080C-2252-4D71-AA7E-5345AC69D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CA61-E444-4766-8CAC-A7557B30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CE54C-693D-4831-A3E2-9B44A7DC30C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7F9E8-B504-406B-9D0E-316E62EEAA0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72B1B-EEA2-4D12-B014-85EC3FF7D8E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23E37-5FF1-4927-A05C-164BDB7E824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3B9C3-960E-4098-B65C-24181C3A0DD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D8300-37D9-4B53-A382-00AE358B2FE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17316-D9E8-4EE0-8289-3D77D664ACC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Чертежи в системе прямоугольных проекций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(С) Озеркова Ирина Александровна, 2009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ПРЯМОУГОЛЬНОЕ ПРОЕЦИРОВАНИЕ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Способ прямоугольного проецирования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Чертёж в системе прямоугольных проекций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– чертёж, состоящий из нескольких прямоугольных проекци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пособ прямоугольного проецирования на три взаимно перпендикулярные плоскости был разработан Гаспаром Монжем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лоскости проецирован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cxnSp>
        <p:nvCxnSpPr>
          <p:cNvPr id="341" name="Прямая со стрелкой 7"/>
          <p:cNvCxnSpPr/>
          <p:nvPr/>
        </p:nvCxnSpPr>
        <p:spPr>
          <a:xfrm flipV="1">
            <a:off x="4714920" y="2499480"/>
            <a:ext cx="2160" cy="1931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42" name="Прямая со стрелкой 9"/>
          <p:cNvCxnSpPr/>
          <p:nvPr/>
        </p:nvCxnSpPr>
        <p:spPr>
          <a:xfrm flipH="1" flipV="1">
            <a:off x="2928240" y="4428360"/>
            <a:ext cx="17866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43" name="Прямая со стрелкой 11"/>
          <p:cNvCxnSpPr/>
          <p:nvPr/>
        </p:nvCxnSpPr>
        <p:spPr>
          <a:xfrm>
            <a:off x="4713840" y="4428720"/>
            <a:ext cx="11437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44" name="Прямая соединительная линия 13"/>
          <p:cNvSpPr/>
          <p:nvPr/>
        </p:nvSpPr>
        <p:spPr>
          <a:xfrm flipV="1">
            <a:off x="5786280" y="3571560"/>
            <a:ext cx="0" cy="200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Прямая соединительная линия 15"/>
          <p:cNvSpPr/>
          <p:nvPr/>
        </p:nvSpPr>
        <p:spPr>
          <a:xfrm flipH="1" flipV="1">
            <a:off x="4714920" y="2499840"/>
            <a:ext cx="1071360" cy="107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Прямая соединительная линия 18"/>
          <p:cNvSpPr/>
          <p:nvPr/>
        </p:nvSpPr>
        <p:spPr>
          <a:xfrm flipH="1" flipV="1">
            <a:off x="4143240" y="5571720"/>
            <a:ext cx="15717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Прямая соединительная линия 20"/>
          <p:cNvSpPr/>
          <p:nvPr/>
        </p:nvSpPr>
        <p:spPr>
          <a:xfrm>
            <a:off x="2999520" y="442908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Прямая соединительная линия 23"/>
          <p:cNvSpPr/>
          <p:nvPr/>
        </p:nvSpPr>
        <p:spPr>
          <a:xfrm flipV="1">
            <a:off x="2998800" y="2571840"/>
            <a:ext cx="1440" cy="185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Прямая соединительная линия 25"/>
          <p:cNvSpPr/>
          <p:nvPr/>
        </p:nvSpPr>
        <p:spPr>
          <a:xfrm flipH="1" flipV="1">
            <a:off x="2999880" y="2571840"/>
            <a:ext cx="1714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TextBox 27"/>
          <p:cNvSpPr/>
          <p:nvPr/>
        </p:nvSpPr>
        <p:spPr>
          <a:xfrm>
            <a:off x="3288960" y="27860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TextBox 28"/>
          <p:cNvSpPr/>
          <p:nvPr/>
        </p:nvSpPr>
        <p:spPr>
          <a:xfrm>
            <a:off x="5301720" y="3571920"/>
            <a:ext cx="39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2" name="TextBox 29"/>
          <p:cNvSpPr/>
          <p:nvPr/>
        </p:nvSpPr>
        <p:spPr>
          <a:xfrm>
            <a:off x="4144320" y="514368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TextBox 30"/>
          <p:cNvSpPr/>
          <p:nvPr/>
        </p:nvSpPr>
        <p:spPr>
          <a:xfrm>
            <a:off x="4782240" y="22147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TextBox 31"/>
          <p:cNvSpPr/>
          <p:nvPr/>
        </p:nvSpPr>
        <p:spPr>
          <a:xfrm>
            <a:off x="2714400" y="450072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TextBox 32"/>
          <p:cNvSpPr/>
          <p:nvPr/>
        </p:nvSpPr>
        <p:spPr>
          <a:xfrm>
            <a:off x="5923080" y="521496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лоскости проецирован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Фронтальная (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V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Горизонтальная (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фильная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(W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Фронтальная проекц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Служит для построения вида спереди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Необходимо разместить предмет так, чтобы хотя бы одна поверхность была параллельна плоскости проецирования и, таким образом, проецировалась без искажений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Это первая по порядку построения проекция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Если эта проекция единственная, то обязательно указание размеров, помогающих выявлять форму детали, а именно толщина 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, указание на круглую или квадратную форму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Горизонтальная проекц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лужит для построения вида сверху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торая по порядку построения проекц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троится тогда, когда фронтальная проекция не выявляет всех особенностей объект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рофильная проекц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лужит для построения вида слев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Третья по порядку построения проекц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троится тогда, когда фронтальная и горизонтальная проекции не выявляют всех особенностей формы объект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остроить проекции предмета по его наглядному изображению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5" name="Содержимое 3" descr="6-5.jpg"/>
          <p:cNvPicPr/>
          <p:nvPr/>
        </p:nvPicPr>
        <p:blipFill>
          <a:blip r:embed="rId1"/>
          <a:stretch/>
        </p:blipFill>
        <p:spPr>
          <a:xfrm>
            <a:off x="2836800" y="1719360"/>
            <a:ext cx="469584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ОБЩИЕ ПОНЯТИЯ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роецирован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Проецирование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– процесс получения изображения предмета на плоскост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Проекция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– изображение объекта, полученное при проецировании на плоскость проекций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Виды проецирован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Центрально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араллельно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осоугольно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ямоугольное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Центральное проецирован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7" name="Содержимое 3" descr="6-1.jpg"/>
          <p:cNvPicPr/>
          <p:nvPr/>
        </p:nvPicPr>
        <p:blipFill>
          <a:blip r:embed="rId1"/>
          <a:stretch/>
        </p:blipFill>
        <p:spPr>
          <a:xfrm>
            <a:off x="2071800" y="1216080"/>
            <a:ext cx="635796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араллельное проецирован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9" name="Содержимое 3" descr="6-2.jpg"/>
          <p:cNvPicPr/>
          <p:nvPr/>
        </p:nvPicPr>
        <p:blipFill>
          <a:blip r:embed="rId1"/>
          <a:stretch/>
        </p:blipFill>
        <p:spPr>
          <a:xfrm>
            <a:off x="2058840" y="1447920"/>
            <a:ext cx="658512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Косоугольное параллельное проецирование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1" name="Содержимое 3" descr="6-3.jpg"/>
          <p:cNvPicPr/>
          <p:nvPr/>
        </p:nvPicPr>
        <p:blipFill>
          <a:blip r:embed="rId1"/>
          <a:stretch/>
        </p:blipFill>
        <p:spPr>
          <a:xfrm>
            <a:off x="2278080" y="1447920"/>
            <a:ext cx="622296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рямоугольное параллельное проецирование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3" name="Содержимое 3" descr="6-4.jpg"/>
          <p:cNvPicPr/>
          <p:nvPr/>
        </p:nvPicPr>
        <p:blipFill>
          <a:blip r:embed="rId1"/>
          <a:stretch/>
        </p:blipFill>
        <p:spPr>
          <a:xfrm>
            <a:off x="2324160" y="1447920"/>
            <a:ext cx="5721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рименение проецирован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Центральное проецирование применяется в архитектуре, строительстве, академическом рисовани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араллельное проецирование применяется в науке, технике, производств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6T00:17:26Z</dcterms:created>
  <dc:creator>Sergey A. Filimonov</dc:creator>
  <dc:description/>
  <dc:language>en-US</dc:language>
  <cp:lastModifiedBy>Sergey A. Filimonov</cp:lastModifiedBy>
  <dcterms:modified xsi:type="dcterms:W3CDTF">2009-09-26T01:28:35Z</dcterms:modified>
  <cp:revision>8</cp:revision>
  <dc:subject/>
  <dc:title>Чертежи в системе прямоугольных проекций</dc:title>
</cp:coreProperties>
</file>