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1818-FBF3-4E96-8589-B9A670DA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DBD8-CC2D-469F-B515-DB32A1CC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C756-E493-414E-BFC6-84F5D048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BAF8-F732-4CFB-ACE0-12D461A5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07DC-931C-4478-8C1C-8C32E05A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E554-B01F-448B-9209-7778D5A2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11D9-A3E1-4DEE-958F-8EAD2A33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2C7A-CD9C-40C7-98C5-FA859875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62F2-2364-4F08-A4DA-505FE261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FEDF-D5B0-484B-BEC6-59B7A379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D7F9-E009-4675-AFAA-F56C23AD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3922-7BFA-495E-9CB2-6D7015F7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8CE1-F0F9-46BA-9A11-4B28DB36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192D-8886-4CA1-8E85-D198FDD8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9662-A5C7-4005-9084-1D6A6595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5F4D-71E7-4C41-B8CC-84F25E60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B5A1-F848-4BDC-AA00-36852351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BBA86-DB23-4A95-AD5D-A7C6FBE0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5479F-2728-49FE-B780-748E6532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65225-3869-4EE5-A870-E2123E98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15162-CA4D-492B-9048-85E9BF4D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13BD0-8770-4D7D-9D89-92821E77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0DB4-AD13-4E9E-9CDC-1DD28CAD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250B7-BE4D-4791-A67E-1AD42293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13780-5ABE-457E-8F18-4FDEF4F9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3DE1E-F7C3-4A7E-9252-1EA0AD82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6F5B7-376C-4163-B46C-377F230C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8657B-4364-4853-B8A9-D0F86E10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2A4D8-BD20-49D2-B9A9-F13F919E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EDA2C-2280-42D3-BE57-C1AB8087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0FA68-A041-4178-8D91-8BE4D27A6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9ADE2-C720-48AB-AA0E-C5EE3153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059F8-FD60-430E-8923-3F9F0F4D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C5AD-1FC6-428E-99DC-246A131B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D7F1E-CEA3-4ADA-9A0B-C5874F42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5A26C-AA42-469E-B1C0-6C6D0E35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D5D10-0706-4D25-8036-F95FACED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D947E-81C2-41CE-BC7E-5338A890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2FB4E-060F-4110-B493-0521AB12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70E11-DA96-4653-82BF-238A35E5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C7DCD-43A9-4D44-B9F4-38A54CDD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183F1-DE14-4530-85D5-266C8E51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4A6FD-69A4-40A7-97F6-F3D19306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9812E-BA36-4A79-80C6-C5E7E60E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E24-AACF-4203-A0CC-C8FDBFC7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72FBE-1422-4DA8-AD0C-4AC1A666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A7B51-8FB2-4A49-A35F-6E0CA327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8EDBB-B24A-42AA-875E-4DEF2BDF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C714E-6930-44CD-93AF-D1810A4D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E4767-1BFE-4F7C-99C5-D047F2AE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FDCB4-9B2E-4BCF-96E4-11266806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83247-C68B-4B9D-9543-DAD63095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EBF4D-6D2A-49FB-9E77-92E9FCD7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683C1-B9F9-4631-B30E-69EB3515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19776-0A66-4426-8934-04548BB8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8CC4-C974-4E0B-BB6C-58462B35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583AE-FAEE-44DC-A211-0178EFA5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45E7F-31CE-4D90-AEC3-130390C8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DD7C1-928E-4331-BAAB-159E9683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185E9-DBE7-43C1-8B63-739AFCD7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15573-9C28-46FF-BE99-142CD408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402BF-43C7-476E-A735-2FEA9EB6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097E3-1362-4542-8735-0D45B207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1BE06-B6CC-43BD-8E89-CCCB07A1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96B20-8E68-4B12-BEC8-A09FBD3F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3B34E-FD15-4680-B249-AA4C2B75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172F-7DF7-4B2D-AD40-3FAF67C7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BB682-5AF9-4DF8-92B0-3A1F7161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6299B-55F7-42A5-B967-AF34E42E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1DC93-81BC-435A-AB1A-A9CA82EF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9BC11-78B3-44F9-ADBF-C08804A2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D54BC-5B63-48CF-8787-F471BF26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422E0-5A64-4737-926D-E9E4D6A6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340F4-6612-4BC6-8DDD-D8D9378E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A6B37-83FA-4B70-9EFE-FC235574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E2F7D-3EF4-4330-A3DE-0DB84F66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F1D39-4B3D-4569-BCD4-B16AA07C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C10C-4566-45E6-B745-D6803095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D3767-9F48-4021-A53C-08AC85C2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55A1A-52EB-420D-9CA4-ADBAE574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5133A-C51B-44E2-A8E5-E653F100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5686C-4B7C-4F2C-AB08-812F03A85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58AA2-0575-48F5-8ACB-BBD42D25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A3D0-F02C-46F7-86C4-FAF5A6D3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6BF8-78B4-4D5D-8E41-8F1FC110917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8647-387B-4F61-9F96-FF868B5DCAF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4754-1C7C-4DF8-AD77-8912DDB6318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7E57-E871-4BDE-A675-7F11347BBE4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6E01-A8F3-4D58-A3B6-8FE3D5F4658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F2D1-3612-406E-8ECF-C34BE12BFC9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BB0D-852C-407C-A32A-1E3E4FEBA6D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актическая работа 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«Чертеж плоской детали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Озеркова Ирина Александровна, 2009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РАЗМЕРЫ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rbel"/>
              </a:rPr>
              <a:t>Выбор размеров на панели инструмент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Можно выбрать все основны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виды размеров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Линей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Радиаль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Диаметраль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Углов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Рисунок 6" descr="5-1.jpg"/>
          <p:cNvPicPr/>
          <p:nvPr/>
        </p:nvPicPr>
        <p:blipFill>
          <a:blip r:embed="rId2"/>
          <a:stretch/>
        </p:blipFill>
        <p:spPr>
          <a:xfrm>
            <a:off x="7929720" y="714240"/>
            <a:ext cx="1014120" cy="569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еобходимо указат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ид размер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ъект, размеры которого требуется постави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грамма Компас рассчитывает размеры, исходя из реальных размеров объекта. Обычно изменять надпись не требуется, кроме случаев указания количества фасок и отверсти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ние размерной надпис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Содержимое 3" descr="5-2.jpg"/>
          <p:cNvPicPr/>
          <p:nvPr/>
        </p:nvPicPr>
        <p:blipFill>
          <a:blip r:embed="rId1"/>
          <a:stretch/>
        </p:blipFill>
        <p:spPr>
          <a:xfrm>
            <a:off x="3554280" y="1214280"/>
            <a:ext cx="337500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ЗАДАНИЕ ДЛЯ ВЫПОЛНЕНИ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кладка (сталь)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2" name="Содержимое 3" descr="5-3.jpg"/>
          <p:cNvPicPr/>
          <p:nvPr/>
        </p:nvPicPr>
        <p:blipFill>
          <a:blip r:embed="rId1"/>
          <a:stretch/>
        </p:blipFill>
        <p:spPr>
          <a:xfrm>
            <a:off x="1339920" y="1357200"/>
            <a:ext cx="74991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кончательный чертеж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Содержимое 3" descr="5-4.jpg"/>
          <p:cNvPicPr/>
          <p:nvPr/>
        </p:nvPicPr>
        <p:blipFill>
          <a:blip r:embed="rId1"/>
          <a:stretch/>
        </p:blipFill>
        <p:spPr>
          <a:xfrm>
            <a:off x="2571840" y="1168560"/>
            <a:ext cx="528624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21:31:24Z</dcterms:created>
  <dc:creator>Sergey A. Filimonov</dc:creator>
  <dc:description/>
  <dc:language>en-US</dc:language>
  <cp:lastModifiedBy>209</cp:lastModifiedBy>
  <dcterms:modified xsi:type="dcterms:W3CDTF">2009-09-23T04:45:13Z</dcterms:modified>
  <cp:revision>4</cp:revision>
  <dc:subject/>
  <dc:title>Практическая работа  «Чертеж плоской детали»</dc:title>
</cp:coreProperties>
</file>