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697-31CF-42D2-B27D-D3C23F58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78E-0773-4758-9420-B300D2A9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E93-6C17-4D1D-A726-A64F6658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6BF-C15E-4355-8921-5DA3B578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73A9-4DCF-4A31-BC79-72B1F5E8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AC05-612F-4D0B-8930-8587DE3C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221B-6565-49E3-A9DC-369C8AF4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FA1B-D117-4E3D-A312-73C4C9EB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6640-0716-4636-B576-921E5802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3FDF-D04A-43B3-9386-FB34AE34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DBCF-F660-4C39-A4D7-D0785CE2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99C-B813-4A97-8586-49A449F9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A952-8F1A-454E-91E5-75A87B6B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4316-6514-43A8-8ABE-F49F5A46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F6C2-C157-4EC1-8802-8CFC330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72FB-D23C-46A2-AA87-35EB1FC7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858D-5987-4C63-B902-13C09F69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CF1C-ABF9-43A8-B137-97C23AD9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7158-3A27-45F1-AE87-F7C4CD16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DC81A-0948-4369-8020-865BE7BC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66912-9733-468D-A2DC-7C083FB1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B8B66-285D-4F8A-9B3A-D7CEAB7D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061-71EE-407C-ACBF-F9D6106E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9C48E-7A09-4496-8EE5-46792329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CEF5-ED98-4B75-A558-D0ABB387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9D17-E6FA-437F-9F67-4BFC04A5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A508-19CB-41F7-913B-9ECD3E63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6B18-304C-4A68-AE6B-1C4B3532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14505-2F6B-49F6-8647-0802B3E1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1525B-54E7-4825-953A-C40042D6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02AB6-04A7-458F-ADE2-12889A00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535F-D706-4C2B-80BB-924BD686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07B26-8279-46D5-849C-DBD1FBCF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60C-25E8-479D-AF82-E60477A1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E4011-872D-4185-85EB-96DC28CE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A6F4C-3528-4BBF-9914-A16C3AC0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93FA4-DF5C-4A87-B629-6804FAD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9CD28-E57C-4731-BC8E-B6D5824A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1338E-9B27-4B8E-B640-D9BF5B7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D6C33-A8A0-44FD-9431-09399EA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A359C-9191-4F93-870A-6A999A1A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849B-60C4-46EB-9BE9-3D54924E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409C6-B86A-4B89-9BCF-11974439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8ECC-7BE8-42CC-A2E7-72EFEE09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74C-75CC-4C8D-AF4E-2921CA0B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D5282-0C92-48D5-803A-71EFAD00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1420F-7B13-412B-936D-83C63021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E21FE-37E6-4DC4-84B6-1AA3F4FC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934F7-524E-4663-9F5A-38D38BEA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9F7DB-E872-4AA0-B5C3-C34B2D73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4B0E8-2607-46F4-9B74-E66BE419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64D37-D761-445F-B0B0-16E60D49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942A0-C0F6-41FD-9ECE-3800FB6E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F6F61-AF1D-4787-AB1C-0A3AECC6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CF37C-5DAF-49C6-A6E2-9CCBD961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635-981D-4EC2-A488-FE9A556E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6EDA1-45D4-49A6-BA46-4C9C1106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643B6-394E-4F00-BF0D-2E6BB248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E75EC-CD3F-49AC-A6A9-1D92B0D2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A856-4E12-45C9-AABE-0707B662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271D1-757D-422D-B3E0-E7A2053A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7CCC4-C772-43BE-9597-63DD0CC3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B7CA3-2610-41C9-90A5-B4A09C70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B4847-3A06-47AC-8575-1CCA0659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3C351-8579-483F-8D82-B29599A4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D3852-0C6B-4596-83CD-77244541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1ED-8260-46D8-AA75-DB2A9CC7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47478-A822-462F-862C-0E502EDD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E258A-0894-4263-B4E6-317D3BEF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59BEB-4A7C-45A1-9210-5F30A020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D2851-2E58-40DA-A525-E6C1E0FE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F754E-B522-4FDC-8C97-9F6E345A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34930-D04D-431A-9B73-25F3AC2C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230C8-1BC1-4F63-BF56-9242BCFB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1E148-4BEA-4B3D-A5A1-F617B246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620E2-3CBA-43BD-9038-26A91B10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970F1-1662-4B11-AEF6-0FD52262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20B-CFAB-4276-A9E0-51591398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95D3A-21F9-435C-BA44-47B528CB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0F11D-B8E1-4D4B-B9F0-2A49B185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0A787-3C10-47DF-BD45-69559FDF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8132B-993E-4647-A0E7-C859E057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250B1-FC53-4C53-BA05-7FD38A25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417-5FEB-4481-BE9E-FEC372D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F1F2-0C06-411F-9B63-11D7519F347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5F9D-CAE2-4539-9E98-08E3E37E4C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3193-CF2B-40A8-9CA2-7EE3B8D639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8297-0F5C-4502-B658-85680A440A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290C-29CE-4506-8A0C-F00E81BB01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5213-0F6F-4B59-90FB-D2BD0CD4E8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E1D7-92E7-4485-A490-3787F4654DC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Г</a:t>
            </a: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еометрические</a:t>
            </a: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примитив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 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сок рассматриваемых примитив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резо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ямоугольни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кружн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ильный многоугольни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нопки, позволяющие вызвать дополнительную панель команд, помечены треугольником в правом нижнем углу. Если на экране нет кнопки, показанной в описании команды, следует нажать на кнопку для ввода аналогичного типа объекта и удержать ее до появления дополнительной панели команд. После чего, не отпуская левой клавиши мыши, надо передвинуть курсор на нужную кнопку и отпустить клавишу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Построение отрезк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100,200)-(110,20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110, 200)-(110, 18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110,180)-(80, 18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80,180)-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100, 200)-(120,16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строение прямоугольник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двум углам  (90,190) и (110, 20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углу и размерам (120, 180), высота 30, ширина -4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ямоугольник по центру и вершине, центр (100, 120), вершина (60, 14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строение окружносте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центру и радиусу центр (100, 200), радиус 30, с ося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центру и точке на окружности (100, 150), (100, 140), без осе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трем точкам (100, 130), (80, 110), (120, 11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троение правильных многоуголь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ятиугольник, вписанный в окружность с центром (100, 200) и радиусом 30, угол поворота 0, с указанием цент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ьмиугольник, описанный вокруг окружности с центром (100, 100) и радиусом 20, угол поворота 225, без указания цент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0:36:19Z</dcterms:created>
  <dc:creator>Sergey A. Filimonov</dc:creator>
  <dc:description/>
  <dc:language>en-US</dc:language>
  <cp:lastModifiedBy>209</cp:lastModifiedBy>
  <dcterms:modified xsi:type="dcterms:W3CDTF">2009-09-16T07:15:34Z</dcterms:modified>
  <cp:revision>8</cp:revision>
  <dc:subject/>
  <dc:title>Графические примитивы</dc:title>
</cp:coreProperties>
</file>