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A12D-4283-48DE-80FF-B93ACAA6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7C32-BB37-4C79-ABF7-B8A5F3E6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0F53-1E13-4973-B19E-58E3C37F2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6A9E-E249-4A6C-BBBC-DE2385854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CC65-E606-43F4-9C85-43001C38C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C1C22-A9C1-42A1-878D-182986F2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674B-1E7F-4BE4-AE5F-E0801E80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F73E5-4BFF-4664-919A-210FCAC7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91F85-268C-4A26-8CAB-E0CE44E3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ADF9-9EDC-4532-98A7-27AE34C6A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3DBEB-4614-4F99-B914-E4E8F7734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4C6E-F176-450F-8704-E22344E8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FB5E-250A-46AE-A853-B087B940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EFA6-A958-43BA-AB42-6CDF3AC2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26D0-2D09-478F-A5AE-CF0279EE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A0FFC-B028-4C70-ACEA-36651820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D710-F3B2-487B-9FCB-6D5CBC634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94702-68CF-4398-9B22-858B99231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00A9B-04B0-4F69-AE7E-D4B3C0BD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FD505-0ADE-46FD-A52A-69214094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92B46-6DEB-452A-9B16-C0596266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E5740-23F2-4293-8EBA-A9945427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E7A1-E9AD-4AD5-8F19-AA910EEA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03D9B-A010-4297-8315-9DFD384A5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CC561-0C43-4CEB-865B-DFCD3D66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E3BCA-A87B-434A-9BCE-7917A2A9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8BF07-0F74-4DE5-AB34-87DE93B0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A3936-6108-4AC9-B928-284F476C2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CABEA-52E1-4276-B6CF-9C6E9D2DE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206BA-786F-49F0-A5BC-84D1B56B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6865D-2695-40EE-9CB3-C41D5C827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449E8-1231-4943-96D2-40B4849E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34C4F6-6BF3-4278-B90B-F03B19835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A730-0E58-455A-964E-5A39ECC7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F6200-8951-4DAC-BA22-75A8EEAD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F921A-AD2A-4D41-B604-4CE3CC0A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76B03-0265-4E85-8B29-6DDDA650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7B793-FA1E-495D-95F5-B5F4A597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DE9D2-6800-460E-837F-0512ACCAB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CCF9C-3295-4DB0-AC83-F268CEC3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81915-EFD8-494F-A257-6B29B54F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2E910-5268-4CD2-A2B5-2A86314CE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34751-0AC7-4D86-A5E9-27A38DE93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7E147-2BE0-4D13-ACE5-30A8C0C4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38EB-2E09-4EE9-9F29-59C0CC6DA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11AF5-B7F2-42F3-91DA-EED80538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2B62A-77E3-4AF1-84E0-86928125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B8E2D-CD61-46D7-A104-29C44CE5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98721-2CD0-4E3B-ADD7-38C08BF3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06E9C-04FF-4322-89C0-B6CA50733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EC1A0-5149-4CC9-B076-59E67ED0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35655-73BD-4923-896D-28570C35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62DA5-89E8-4640-86D3-DA861D1F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23535-ADA7-47E5-A5D8-08539B22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819AB-6777-452D-BB3E-D18BD83E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DF4D-83CF-49B5-AC03-FFDB1E682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242AA-88C4-48FE-967A-398C6D46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CBE41-235F-4FF9-91BE-5126C5FB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4EE78C-2CDC-4E67-82F1-EC1ADF8F1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01FD0-804F-49E8-8ABD-832673CA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64A03B-4F53-4B89-8C35-E86F6D23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6A13D-3FAF-44CA-B8CC-7102C103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A724A-FDDD-4E01-A39A-E72BD5D1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38EF5-4F8D-4A14-9AD7-2216525A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F993D-D075-4232-AA51-20BAB435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5A11A-ED94-4285-ACCA-BE579275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CF61-B7B4-4CC3-8589-671D780D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FE082-A4F5-4F6C-8266-62114543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F4B35-57D7-4FE1-9142-48E64CBB1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81FEB-0D85-401A-96BD-CDE0894C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42617-74C3-4A9D-B52E-D3D869D4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C0C0F-23FF-418B-B13E-B445289FF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945AA-BEFB-4D11-A480-A5960D30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242C0-CDDD-4818-9738-2D2E4E94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1D039-88A0-4DFF-BFC8-C489ACFB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DC085-4E72-4125-9152-51561629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501C8-25F8-450C-8255-800BEBE13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859C-C0AF-4E1A-8713-7AEF531E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CD6C0-7284-4B2E-A29A-11B4F1BB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37B450-C730-4C96-9B09-71B0A791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A6169-F10D-4345-83DC-C0D0A175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84E72-7FEB-4C1D-8548-C9EBF6F24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C484A-4EF1-4170-AE00-131E0C09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E715-E6C7-4DA4-8B25-85F30345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4EBF-FAAB-4B9F-8C48-F19AB68AF05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3723-4A52-4103-90D8-5DA38D82E18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F1172-576F-4620-B8D5-E06CEDEDD0E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34FB-B9DC-46EF-B218-601946307CE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2A84-9DC2-41B3-887F-B68D4A9C52F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C343-5390-436F-93AA-1E0D03F6AF4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09DC-B48E-4E91-B1E6-40075A3D145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актическая работа «Линии чертежа»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(С) Озеркова Ирина Александровна, 2009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Удаление объект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71320" indent="-4935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кажите на отрезок (либо непосредственно указанием, либо с помощью меню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ыделить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71320" indent="-4935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братите внимание, что выделить можно одновременно несколько объектов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71320" indent="-49356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далите выделенный объект (нажатием кнопки 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Delete</a:t>
            </a:r>
            <a:r>
              <a:rPr b="0" lang="de-DE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или с использованием команды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едактор – Удалить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имер работ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троение отрезков по заданным координата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троить горизонтальный отрезок (20-230), (60,230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троить вертикальный отрезок (80, 220), (80, 240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троить отрезок (110, 220), (150, 240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троить ломаную по координатам (40, 100), (60, 120), (100, 90), (150, 85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полнение основной надпис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ставка – Основная надпис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берите параметры и заполните основную надпис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е забудьте нажать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оздать объек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Рисунок 3" descr="3-5.jpg"/>
          <p:cNvPicPr/>
          <p:nvPr/>
        </p:nvPicPr>
        <p:blipFill>
          <a:blip r:embed="rId1"/>
          <a:stretch/>
        </p:blipFill>
        <p:spPr>
          <a:xfrm>
            <a:off x="1357200" y="3786120"/>
            <a:ext cx="673416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ЛИНИИ ЧЕРТЕЖА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ыполнить работу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1" name="Содержимое 3" descr="3-6.jpg"/>
          <p:cNvPicPr/>
          <p:nvPr/>
        </p:nvPicPr>
        <p:blipFill>
          <a:blip r:embed="rId1"/>
          <a:stretch/>
        </p:blipFill>
        <p:spPr>
          <a:xfrm>
            <a:off x="1849320" y="1447920"/>
            <a:ext cx="667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СИСТЕМЫ КООРДИНАТ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 системе «Компас» существуют 2 вида систем координат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бсолютная система координа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окальные системы координа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Абсолютная система координат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авая декартова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дана системой по умолчанию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уществует всегд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дна для всех точек чертеж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чало координат в левом нижнем углу лист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и направлены вправо и вверх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Локальная система координа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авая декартов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даётся при необходимост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уществует для заданного чертеж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оличество не ограничено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чало координат в любой указанной точк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си могут быть направлены под требуемым углом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Задание новой локальной системы координат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а панели 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ид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27688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адание параметров ЛСК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Рисунок 10" descr="3-1.jpg"/>
          <p:cNvPicPr/>
          <p:nvPr/>
        </p:nvPicPr>
        <p:blipFill>
          <a:blip r:embed="rId1"/>
          <a:stretch/>
        </p:blipFill>
        <p:spPr>
          <a:xfrm>
            <a:off x="2071800" y="2071800"/>
            <a:ext cx="1790640" cy="83808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11" descr="3-2.jpg"/>
          <p:cNvPicPr/>
          <p:nvPr/>
        </p:nvPicPr>
        <p:blipFill>
          <a:blip r:embed="rId2"/>
          <a:stretch/>
        </p:blipFill>
        <p:spPr>
          <a:xfrm>
            <a:off x="2786040" y="3214800"/>
            <a:ext cx="595332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ПЕРВЫЙ ЧЕРТЁЖ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Выбор формата чертежа и основной надпис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ервис – Параметры -  Формат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(или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Оформлени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Рисунок 6" descr="3-3.jpg"/>
          <p:cNvPicPr/>
          <p:nvPr/>
        </p:nvPicPr>
        <p:blipFill>
          <a:blip r:embed="rId1"/>
          <a:stretch/>
        </p:blipFill>
        <p:spPr>
          <a:xfrm>
            <a:off x="1857240" y="2571840"/>
            <a:ext cx="5477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Начало постро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ключить кнопку 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Геометрические построения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На инструментальной панели геометрии выбрать пиктограмму </a:t>
            </a: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Ввод отрезка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Проверьте, чтобы кнопка </a:t>
            </a:r>
            <a:r>
              <a:rPr b="1" lang="en-US" sz="2700" spc="-1" strike="noStrike">
                <a:solidFill>
                  <a:srgbClr val="000000"/>
                </a:solidFill>
                <a:latin typeface="Gill Sans MT"/>
              </a:rPr>
              <a:t>Auto</a:t>
            </a:r>
            <a:r>
              <a:rPr b="0" lang="de-DE" sz="2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была не нажата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Введите координаты первой точки, а затем второй точки отрезка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orbel"/>
              </a:rPr>
              <a:t>Создать объект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orbel"/>
              </a:rPr>
              <a:t>Система остаётся в ожидании второго отрезка – для выхода из команды следует её прервать 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Рисунок 3" descr="3-4.jpg"/>
          <p:cNvPicPr/>
          <p:nvPr/>
        </p:nvPicPr>
        <p:blipFill>
          <a:blip r:embed="rId1"/>
          <a:stretch/>
        </p:blipFill>
        <p:spPr>
          <a:xfrm>
            <a:off x="1285920" y="5857920"/>
            <a:ext cx="758196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21:55:33Z</dcterms:created>
  <dc:creator>Sergey A. Filimonov</dc:creator>
  <dc:description/>
  <dc:language>en-US</dc:language>
  <cp:lastModifiedBy>Sergey A. Filimonov</cp:lastModifiedBy>
  <dcterms:modified xsi:type="dcterms:W3CDTF">2009-09-08T23:05:39Z</dcterms:modified>
  <cp:revision>9</cp:revision>
  <dc:subject/>
  <dc:title>Практическая работа «Линии чертежа»</dc:title>
</cp:coreProperties>
</file>