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1C20-31A6-4617-A768-6FDC0D64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FF3-20AE-4DA4-8734-ECE2E712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3D0-824A-4180-A097-8B3A2057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9E0-E11E-4B28-B2A5-B1672374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5651-EFD0-456C-81E0-38322D2A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AB5B-244B-43C6-9BB0-DA2EA679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4B9D-C156-445A-A1A4-64227193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2206-1E12-4CF2-B2BB-BB5D337D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5C7B-420E-4DE8-AFFA-5D3E5DCE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8F5B-3375-4240-9BA8-64301201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0ACE-64AA-49D8-BCF8-9C539F2E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360-F5D6-49AF-BA0E-FF9852A4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77C5-4E03-423C-9BE6-2479DFFE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CD22-FA3E-4444-A877-0B10CAD5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595E-A0B8-4FF3-877D-25BE7FCF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9725-1224-49FE-A4EC-F4B3618D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4254-242C-43B0-941B-936E2BD9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F9638-A78A-4336-9C46-0245D3D8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7CE5-9633-4F72-9321-CB960910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AAB3-48E4-41E0-9E1C-046D50E4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6E906-46B6-47B0-9318-24774600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BD416-B889-4DEB-A6B7-A47CE0A6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925-9B4F-4364-884E-3295E04D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F2944-427E-4966-A443-357E8ED8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8F8AA-4FA5-498A-BF11-15E093DE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27F46-39F8-415C-ACAD-AE345569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318B1-058E-46EE-83E4-8E2FC6B1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44BA4-E7EE-479A-B7F6-790EAB36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A746D-E566-48DD-BEAB-0AB88EFB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2A840-2382-46B0-9268-C4275989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4F26A-8E97-4F24-854B-871B2B83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DFA6B-1E46-43F4-8930-EF575AE4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65D6F-285A-40B4-BCD4-20F48C3B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FCB-6E87-4435-80FB-47D00A7C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1C643-F8DF-4581-9650-7F450FFE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A1C33-2449-44A6-9CD2-A59B74E1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629B3-C21D-47D7-8A9E-3100D73D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3436E-0F98-452A-816A-1A56546C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0FB07-0B32-4DB2-906F-9981EEB5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9B1AB-9EB0-4998-B433-88E1E9C2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A9A96-32B5-4BBB-ABC7-A88B8B47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73741-E8A6-46D4-90AE-31062297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D5A2D-D961-466C-AFD4-ED389897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9429E-6BBC-43F0-833A-5193FFD7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A3B-C8FA-4063-B8B7-CDF6D56F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FCCCE-4AE1-4408-8A5E-227B0A02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5AEB6-C674-45A6-B037-EBAC23FF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4F152-DD34-4CB0-A6BC-DC614DF3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30C2A-BA8B-42C7-AD7C-BEF198B8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6590C-90D4-453A-84B1-52C1D8DB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9686D-B4BA-4053-8E02-BB06058E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95C8A-6E3E-4423-AC3E-F96E3D80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355C9-AE08-4F09-87C4-F2A404CA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68A3C-B64C-46A3-B54C-AE4C6FDD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02482-FF9F-4274-BBB9-34EDA540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8F1-1A4E-468E-B5F6-57752942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EF710-F6E5-438D-9C23-634121B7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FBE72-CA94-46A1-A24F-5AB11C87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2638C-40CA-469C-A16E-89B9AD74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EF1E1-704D-46E0-A6DD-CD458BEC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E8ADB-0733-40A5-BC20-DBD8ED49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BBC13-12F5-4F1B-A133-679156BE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43956-84BE-460F-B66F-3826BA33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BADED-6BDC-42F9-B85A-1F0E04EC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FA6EB-86C5-4063-B11D-9E93DFEE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FD207-C4A8-4CDD-B592-E415E03E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A92-F285-460D-8240-5231A6FD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B7604-2174-4222-8567-2F56B4E5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C9D3F-F489-4703-925D-45B3A5A1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8E047-17D9-4028-B45C-7C08AC1B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0B01F-4459-432F-B735-3AAF1106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6FD88-A498-4847-8CF6-0DF1F127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8E5E4-AD96-4EF2-9C15-953171AF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9B807-2D54-4F9A-B189-8D669340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D8666-402A-46F2-9FD3-75DDF252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780B0-31B8-465F-9B72-FB638D51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97647-EC9A-4DFE-B724-664509A8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93B-0EED-4C63-81A2-640B0626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16B45-51CC-4D93-A104-D309A84A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33134-7E70-4BBD-90D7-0769736D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50589-C73B-41A3-A382-F1C63E1A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CB778-E1C7-46FB-A377-740E4CD1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D4E9C-E0CF-4B3C-A26E-CCD6AF5C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892-F712-43FC-A693-E86B3096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EFA5-3726-4C1A-A456-0BB65F3FC7E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6136-486D-4589-856B-D8172AF2754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38C1-A0C5-470B-BA23-438321BD7A0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DAC8-DFE1-4064-A4FE-0D3C719A6A2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4DC6-28F9-4700-B215-98DFD5DB55D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534F-76DB-4DAB-8508-16302EB1102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F51D-3410-46A1-B9F3-7E6EFA3E054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аски и скругл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(С) Озеркова Ирина Александровна, 2010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Фас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Фаска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– скошенная часть кромки детали, предназначенная для облегчения соединения деталей, безопасности проведения сборочных работ и соблюдения технологии изготовл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Рисунок 3" descr="21-1.jpg"/>
          <p:cNvPicPr/>
          <p:nvPr/>
        </p:nvPicPr>
        <p:blipFill>
          <a:blip r:embed="rId2"/>
          <a:stretch/>
        </p:blipFill>
        <p:spPr>
          <a:xfrm>
            <a:off x="4643280" y="4221000"/>
            <a:ext cx="1936800" cy="121464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4" descr="21-2.jpg"/>
          <p:cNvPicPr/>
          <p:nvPr/>
        </p:nvPicPr>
        <p:blipFill>
          <a:blip r:embed="rId3"/>
          <a:stretch/>
        </p:blipFill>
        <p:spPr>
          <a:xfrm>
            <a:off x="0" y="5715000"/>
            <a:ext cx="90964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означение фасо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21-4.jpg"/>
          <p:cNvPicPr/>
          <p:nvPr/>
        </p:nvPicPr>
        <p:blipFill>
          <a:blip r:embed="rId1"/>
          <a:stretch/>
        </p:blipFill>
        <p:spPr>
          <a:xfrm>
            <a:off x="2357280" y="1214280"/>
            <a:ext cx="4648320" cy="285768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4" descr="21-3.jpg"/>
          <p:cNvPicPr/>
          <p:nvPr/>
        </p:nvPicPr>
        <p:blipFill>
          <a:blip r:embed="rId2"/>
          <a:stretch/>
        </p:blipFill>
        <p:spPr>
          <a:xfrm>
            <a:off x="2214720" y="4500720"/>
            <a:ext cx="5076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мер моделирования фасо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Содержимое 3" descr="21-5.jpg"/>
          <p:cNvPicPr/>
          <p:nvPr/>
        </p:nvPicPr>
        <p:blipFill>
          <a:blip r:embed="rId1"/>
          <a:stretch/>
        </p:blipFill>
        <p:spPr>
          <a:xfrm>
            <a:off x="3027240" y="2295360"/>
            <a:ext cx="43149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кругл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кругление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лается при переходе форм от одной поверхности к другой в деталях, получаемых литьём, а также в ряде случаев кромки детал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Рисунок 3" descr="21-6.jpg"/>
          <p:cNvPicPr/>
          <p:nvPr/>
        </p:nvPicPr>
        <p:blipFill>
          <a:blip r:embed="rId1"/>
          <a:stretch/>
        </p:blipFill>
        <p:spPr>
          <a:xfrm>
            <a:off x="857160" y="5286240"/>
            <a:ext cx="76201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означение скругле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Содержимое 3" descr="21-7.jpg"/>
          <p:cNvPicPr/>
          <p:nvPr/>
        </p:nvPicPr>
        <p:blipFill>
          <a:blip r:embed="rId1"/>
          <a:stretch/>
        </p:blipFill>
        <p:spPr>
          <a:xfrm>
            <a:off x="1214280" y="2200320"/>
            <a:ext cx="78519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имер моделирования скруглени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Содержимое 3" descr="21-8.jpg"/>
          <p:cNvPicPr/>
          <p:nvPr/>
        </p:nvPicPr>
        <p:blipFill>
          <a:blip r:embed="rId1"/>
          <a:stretch/>
        </p:blipFill>
        <p:spPr>
          <a:xfrm>
            <a:off x="3122640" y="2276640"/>
            <a:ext cx="4124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дель рукоят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Содержимое 3" descr="21-9.jpg"/>
          <p:cNvPicPr/>
          <p:nvPr/>
        </p:nvPicPr>
        <p:blipFill>
          <a:blip r:embed="rId1"/>
          <a:stretch/>
        </p:blipFill>
        <p:spPr>
          <a:xfrm>
            <a:off x="2214720" y="1500120"/>
            <a:ext cx="4752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ертёж рукоят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Содержимое 6" descr="21-10.jpg"/>
          <p:cNvPicPr/>
          <p:nvPr/>
        </p:nvPicPr>
        <p:blipFill>
          <a:blip r:embed="rId1"/>
          <a:stretch/>
        </p:blipFill>
        <p:spPr>
          <a:xfrm>
            <a:off x="2143080" y="1177920"/>
            <a:ext cx="600084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25:49Z</dcterms:created>
  <dc:creator>Sergey A. Filimonov</dc:creator>
  <dc:description/>
  <dc:language>en-US</dc:language>
  <cp:lastModifiedBy>209</cp:lastModifiedBy>
  <dcterms:modified xsi:type="dcterms:W3CDTF">2010-03-25T11:34:52Z</dcterms:modified>
  <cp:revision>11</cp:revision>
  <dc:subject/>
  <dc:title>Фаски и скругления</dc:title>
</cp:coreProperties>
</file>