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6B88-7842-4DCD-8913-70379BF40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C041-46B8-46EC-9E91-8E2FD5F5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4275-F160-4E13-B247-298E8D7D1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EDEE-EBDE-4275-ABC3-10A5F4649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F334-3519-40FC-A6A2-595E93A6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1E51-C4BB-4D98-93E3-199C2016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8068-9810-4C60-B2CD-A5BF87EB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A1E2-8EFE-4A68-9FDD-0B247A8E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6883-99AF-4AD4-8C83-B0E9DBFA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5DCC-DB51-4BE7-9594-DBC8CA0A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3DAD-69B0-4439-9925-6331BC0C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5EED-32F3-4EC2-BC0C-7C56E7D1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6B4B-4FEE-4FBF-8E66-2A867EC3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E6B0-FC9D-4040-A1BE-FE03FD42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5490-AD34-4F27-A14B-09A134B9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7C4E-9308-4CD0-8E44-618F67ECC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B818-EC27-46F7-B1A3-E65B5F9C8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FD025-F05D-4A95-A726-5F482EDDE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74006-9060-4A2F-8682-CE8F3EB6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D10D5-06E5-4289-B994-E2E55A21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2E35C-168D-43DA-8ED8-E418940C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7A2EE-138C-4E46-96D8-A5B31D67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31B2-9146-4493-847D-C50E1357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C8FBE-A1AB-42B0-A87A-4CB32A37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67319-6EDB-4784-830E-5817CB1B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7ED94-45C9-4E78-BC1D-3CE95DF7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7DCED-6775-4703-8D54-59EDD6E6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B785A-2A0E-4152-BFE6-EBF2C2D4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13A87-C8C4-4C86-BC18-D9C35B385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682F4-F94D-4A2D-9B8F-78D7D19C6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9CCB2-AE1D-4B12-9733-2D4044EDC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3D22D-CBAB-4DFD-887B-A0EE9D25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BF313-02F4-4522-A752-F0136A44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62A9-51C6-48E8-9A5D-7ECD7C0E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F83C5-BC1D-443C-8810-4ABF7AA5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D7797-F372-4BFB-95D2-4F3A5545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B1E4C-742D-4DAE-8DBA-39049926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FE97D-5603-4D3F-B8DC-5AF7CC21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C404F-CBFD-48A4-8751-87D1E118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F308D-A32F-48CB-B080-1EB26857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23AE5-D203-4AAC-9369-2F538FE0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F85C1-B694-4CC2-8B90-C41F95AE4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B0349-91DD-467F-98D1-0C811B928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FB8CB-D02F-4DF5-B03D-0189EA1CE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AB8E-E1AB-4C12-B745-5E8C0A7C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6611A-39EE-4770-B8B5-227E04C0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E767D-FDF0-4CD5-A184-D6D263D6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31D3B-8CEA-4D33-A16D-EC00F073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E6847-45EC-4FEF-A9EF-3B1806D1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7F700-4C16-4CC0-B7F9-E9A6EE12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05B35-3EEC-4F86-8A46-DB4A1DF4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3FBC6-C2A6-4826-A17A-E3CD1E61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3A201-99D1-4696-9963-047BFBBC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A63B8-78BA-430F-97B3-F7667752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A54AE-19C7-4BED-A1EE-173388C79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DDCD-3D7E-4FEF-B3D1-51544F55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590CD-032C-4412-8584-3A58342BE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0EFA5-9704-4F35-9FC7-2065B6BFC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8CAC1-FCDE-4191-A98E-EA3E940A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A71BA-9162-45F0-9FFF-99CC92DE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B4B08-8F5B-4D4D-812D-27E8F054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34EAA-40D8-4F9C-A206-6D3415FF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8F028-2EF9-4329-A003-00B17E40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152BD-0380-49E1-AED5-842E0397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5AE25-8FC7-4185-B215-C4673C89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65432-C7A6-4591-B745-F11D217F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9C4B-7910-4005-8F4B-24D12672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B41D3-D7B2-4ECB-9CE5-F62037F2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28F39-1C0D-4CD8-B83F-72426FB8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08123-D3E5-4E8A-9BBC-05B2FDFBD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76BFA-0133-4CBE-A7D3-AB9D33F6F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F751D-3025-4084-B016-A068524F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E0809-643B-4703-9C29-7EFDFB67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9786C-6386-45B3-A57E-6A9CDAAE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CBAC3-60CB-46BF-812F-75B36DC4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6B2ED-52BE-4331-BF62-58C7FA73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17C1D-479D-4AF4-B393-99AF4922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A012-33AA-450E-A8D8-519EDC58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19D0C-498D-47D2-BC39-868428BD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76D23-7CF1-4EB5-A77D-0DD62F12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35D91-0882-4E79-8617-1C94F9AE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1D382-24F4-475E-9511-5FC89131D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C55DC-90C4-4BE1-9590-CE769836A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B751-31FE-4736-908B-D1B69BE7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27DC-E3CF-423E-B11E-82928F77CAC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30A5-5D04-4142-90B5-859E675A796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943F-7985-4EDD-B743-6638383219F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AF4B-20E7-4C1D-B26D-E8BC01BF2C4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97E0-FC29-47E3-862A-5944665A73A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F87E-89F0-4BE7-A79A-4DEA6872911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9C9C-D397-43B9-88C8-1088113AE68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тандарт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(С) Озеркова Ирина Александровна, 2009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Оформление чертёжного лист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7" name="Содержимое 3" descr="2-1.jpg"/>
          <p:cNvPicPr/>
          <p:nvPr/>
        </p:nvPicPr>
        <p:blipFill>
          <a:blip r:embed="rId1"/>
          <a:stretch/>
        </p:blipFill>
        <p:spPr>
          <a:xfrm>
            <a:off x="3070080" y="1447920"/>
            <a:ext cx="4573800" cy="51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56840" y="2854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Линии чертеж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9" name="Содержимое 3" descr="2-2.jpg"/>
          <p:cNvPicPr/>
          <p:nvPr/>
        </p:nvPicPr>
        <p:blipFill>
          <a:blip r:embed="rId1"/>
          <a:stretch/>
        </p:blipFill>
        <p:spPr>
          <a:xfrm>
            <a:off x="3214800" y="1143000"/>
            <a:ext cx="392904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имеры лини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1" name="Содержимое 3" descr="2-3.jpg"/>
          <p:cNvPicPr/>
          <p:nvPr/>
        </p:nvPicPr>
        <p:blipFill>
          <a:blip r:embed="rId1"/>
          <a:stretch/>
        </p:blipFill>
        <p:spPr>
          <a:xfrm>
            <a:off x="1889280" y="1447920"/>
            <a:ext cx="6591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Чертёж и изображение детал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3" name="Содержимое 3" descr="2-4.jpg"/>
          <p:cNvPicPr/>
          <p:nvPr/>
        </p:nvPicPr>
        <p:blipFill>
          <a:blip r:embed="rId1"/>
          <a:stretch/>
        </p:blipFill>
        <p:spPr>
          <a:xfrm>
            <a:off x="2951280" y="1447920"/>
            <a:ext cx="4467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ШРИФТ ЧЕРТЁЖНЫЙ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азмеры шрифт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,8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,5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,5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аклон шрифт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клон 75˚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ез наклон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асчёты параметров шрифт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1" name="Содержимое 3" descr="2-5.jpg"/>
          <p:cNvPicPr/>
          <p:nvPr/>
        </p:nvPicPr>
        <p:blipFill>
          <a:blip r:embed="rId1"/>
          <a:stretch/>
        </p:blipFill>
        <p:spPr>
          <a:xfrm>
            <a:off x="3286080" y="1200240"/>
            <a:ext cx="392904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ачерт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3" name="Содержимое 3" descr="2-6.jpg"/>
          <p:cNvPicPr/>
          <p:nvPr/>
        </p:nvPicPr>
        <p:blipFill>
          <a:blip r:embed="rId1"/>
          <a:stretch/>
        </p:blipFill>
        <p:spPr>
          <a:xfrm>
            <a:off x="1143000" y="1143000"/>
            <a:ext cx="5286240" cy="235260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4" descr="2-7.jpg"/>
          <p:cNvPicPr/>
          <p:nvPr/>
        </p:nvPicPr>
        <p:blipFill>
          <a:blip r:embed="rId2"/>
          <a:stretch/>
        </p:blipFill>
        <p:spPr>
          <a:xfrm>
            <a:off x="1143000" y="3500280"/>
            <a:ext cx="5286240" cy="145440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5" descr="2-8.jpg"/>
          <p:cNvPicPr/>
          <p:nvPr/>
        </p:nvPicPr>
        <p:blipFill>
          <a:blip r:embed="rId3"/>
          <a:stretch/>
        </p:blipFill>
        <p:spPr>
          <a:xfrm>
            <a:off x="1143000" y="5072040"/>
            <a:ext cx="5286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следовательность написания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7" name="Содержимое 3" descr="2-9.jpg"/>
          <p:cNvPicPr/>
          <p:nvPr/>
        </p:nvPicPr>
        <p:blipFill>
          <a:blip r:embed="rId1"/>
          <a:stretch/>
        </p:blipFill>
        <p:spPr>
          <a:xfrm>
            <a:off x="1571760" y="1143000"/>
            <a:ext cx="4572000" cy="441972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4" descr="2-10.jpg"/>
          <p:cNvPicPr/>
          <p:nvPr/>
        </p:nvPicPr>
        <p:blipFill>
          <a:blip r:embed="rId2"/>
          <a:stretch/>
        </p:blipFill>
        <p:spPr>
          <a:xfrm>
            <a:off x="1357200" y="5724360"/>
            <a:ext cx="4929480" cy="9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ВИДЫ ГРАФИЧЕСКИХ ИЗОБРАЖЕНИЙ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РАЗМЕРЫ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Нанесение линейных размер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2" name="Содержимое 3" descr="2-11.jpg"/>
          <p:cNvPicPr/>
          <p:nvPr/>
        </p:nvPicPr>
        <p:blipFill>
          <a:blip r:embed="rId1"/>
          <a:stretch/>
        </p:blipFill>
        <p:spPr>
          <a:xfrm>
            <a:off x="2327400" y="2657520"/>
            <a:ext cx="571500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анесение размеров дуг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4" name="Содержимое 3" descr="2-12.jpg"/>
          <p:cNvPicPr/>
          <p:nvPr/>
        </p:nvPicPr>
        <p:blipFill>
          <a:blip r:embed="rId1"/>
          <a:stretch/>
        </p:blipFill>
        <p:spPr>
          <a:xfrm>
            <a:off x="2327400" y="2505240"/>
            <a:ext cx="57150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Нанесение размеров окружности и квадрат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6" name="Содержимое 3" descr="2-13.jpg"/>
          <p:cNvPicPr/>
          <p:nvPr/>
        </p:nvPicPr>
        <p:blipFill>
          <a:blip r:embed="rId1"/>
          <a:stretch/>
        </p:blipFill>
        <p:spPr>
          <a:xfrm>
            <a:off x="1071720" y="1428840"/>
            <a:ext cx="5715000" cy="2562120"/>
          </a:xfrm>
          <a:prstGeom prst="rect">
            <a:avLst/>
          </a:prstGeom>
          <a:ln w="0">
            <a:noFill/>
          </a:ln>
        </p:spPr>
      </p:pic>
      <p:pic>
        <p:nvPicPr>
          <p:cNvPr id="367" name="Рисунок 4" descr="2-14.jpg"/>
          <p:cNvPicPr/>
          <p:nvPr/>
        </p:nvPicPr>
        <p:blipFill>
          <a:blip r:embed="rId2"/>
          <a:stretch/>
        </p:blipFill>
        <p:spPr>
          <a:xfrm>
            <a:off x="3429000" y="4071960"/>
            <a:ext cx="571500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анесение размеров толщины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9" name="Содержимое 3" descr="2-15.jpg"/>
          <p:cNvPicPr/>
          <p:nvPr/>
        </p:nvPicPr>
        <p:blipFill>
          <a:blip r:embed="rId1"/>
          <a:stretch/>
        </p:blipFill>
        <p:spPr>
          <a:xfrm>
            <a:off x="1500120" y="1500120"/>
            <a:ext cx="5311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анесение размеров длин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1" name="Содержимое 3" descr="2-16.jpg"/>
          <p:cNvPicPr/>
          <p:nvPr/>
        </p:nvPicPr>
        <p:blipFill>
          <a:blip r:embed="rId1"/>
          <a:stretch/>
        </p:blipFill>
        <p:spPr>
          <a:xfrm>
            <a:off x="1500120" y="2500200"/>
            <a:ext cx="69724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Габаритные размер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Габаритными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называются размеры, определяющие предельные величины внешних очертаний изделий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 ним относятся размеры длины, ширины, высоты издел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МАСШТАБ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нятие масштаб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Масштаб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– это отношение размеров изображения к действительным размерам предмет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не зависимости от масштаба на чртеже всегда наносят действительные размеры издел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иды масштаб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асштаб натуральной величины 1: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асштабы уменьшения 1:2, 1:2,5 1:4, 1:5, 1:10, 1:15, 1:25, 1:40, 1:50, 1:75, 1:100, 1:200, 1:400, 1:500, 1:800, 1:100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асштабы увеличения 2:1, 2,5:1, 4:1, 5:1,10:1, 20:1, 40:1, 50:1, 100: 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Чертёж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ертёж – это документ, содержащий изображение изделия (или архитектурного сооружения), а также другие данные ( размеры, масштаб, технические требования), необходимые для его изготовления (строительства) и контрол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ыполнить в масштабе 2:1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1" name="Содержимое 3" descr="2-17.jpg"/>
          <p:cNvPicPr/>
          <p:nvPr/>
        </p:nvPicPr>
        <p:blipFill>
          <a:blip r:embed="rId1"/>
          <a:stretch/>
        </p:blipFill>
        <p:spPr>
          <a:xfrm>
            <a:off x="1428840" y="1214280"/>
            <a:ext cx="400032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здел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зделие – любой предмет или набор предметов, подлежащий изготовлению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еталь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таль – изделие, изготовленное из однородного по наименованию и марке материала, без применения сборочных операци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борочная единиц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борочная единица – изделие, составные части которого подлежат соединению между собой сборочными операциями (свинчиванием, клёпкой, сваркой, сшиванием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Комплек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мплект - набор каких-либо предметов, отвечающих определённому назначению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Комплекс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мплекс – совокупность чего-либо (изделий, зданий), образующих одно цело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ПРАВИЛА ОФОРМЛЕНИЯ ЧЕРТЕЖА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02:19:19Z</dcterms:created>
  <dc:creator>Sergey A. Filimonov</dc:creator>
  <dc:description/>
  <dc:language>en-US</dc:language>
  <cp:lastModifiedBy>Sergey A. Filimonov</cp:lastModifiedBy>
  <dcterms:modified xsi:type="dcterms:W3CDTF">2009-09-19T01:32:00Z</dcterms:modified>
  <cp:revision>13</cp:revision>
  <dc:subject/>
  <dc:title>Стандарты</dc:title>
</cp:coreProperties>
</file>