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E1BC-C55A-47E3-B98D-E2EFA911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61F7-4BB3-435F-8085-DAACE758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6393-B6AF-447D-93D6-10B42F96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20A1-B32B-4E1A-886C-76A8F1F0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50E2-25BB-42BF-89E9-EFBC3545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1321-1F39-443D-985A-66B756E2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9F79-03A2-4543-94B2-724B8B13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8C44-24EF-42A6-8A6B-BC564E92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34B9-E650-4CDD-BFD1-72004F1F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511D-98BA-4E28-9C1F-ED2AB305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57E9-AD08-4C43-9FB7-44C47B71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FDE-DE8C-4767-8FFD-7A1262D2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25BE-2CD8-4AF7-8EF0-FC6020E9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D660-CB67-4E5D-8923-85C6D871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C290-1606-4D50-AD7C-E0B9DE6B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BF56-6049-4FAB-B6DB-4BC442B3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08AD-FA5F-4407-9847-2F27C463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4F039-3913-4C83-A249-DC258555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C2622-4732-4872-9381-DE6C2C5A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9A48A-2D7E-436A-B14C-3685A7F8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1BE91-F295-4833-8194-65A11957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83DC6-CD9F-48CC-A53D-B7C6BF0F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057E-5034-47AC-9538-C177C10F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2872C-A83B-418C-B04A-D64B712A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9FBE0-6F5C-489D-8C5B-E93225B6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5F8CE-2B23-43CB-9BE9-2EDCA86B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BE482-6AF8-4E23-A323-30805EBA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BCAC0-94F7-4C3E-8138-955E9D6F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B4D4D-E62F-4C77-ACE5-D52FA02A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96CEB-A562-4AD7-976D-8AD9AD44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E787E-D998-49BA-AFB0-49E17FC4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A48F8-A308-4396-BB96-F707853B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B7EA0-5FEA-4FC1-9AD0-251F5C14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F933-5F3A-497E-A6A9-50E7B23A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3AEBA-DBBF-4DF9-B19B-942295BF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40CD4-97AF-4D59-B54E-DD20CCD2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6618E-8CF5-4787-A871-FECD9128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5B8A9-C095-447A-B82C-31262328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13805-7B13-40AD-A6A1-50806F21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E1D15-1805-4AC4-A65A-6D4D5B6E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AE6B6-64CD-4181-B7D1-845FBA9E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E9680-092D-416E-B52B-83D4B9AA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963FB-294A-404B-A8B3-064975AC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F08DB-CAA7-44DE-B055-52C5C5EE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FE9-75B8-4558-AD97-3EB3AA89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10CA7-283A-41B6-8B3D-6590889C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E8596-67A5-405D-9A33-BC6BFE7E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06A46-D4AC-468F-BEDC-6B8DC268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18824-61B8-4963-80A1-03D8BC0E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CCCFB-221C-4E70-8520-09B9AC15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5F809-2564-44ED-8A45-1700528F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A4833-050E-451E-9997-85AD633E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0D8C6-B29D-4FD1-8F8A-F5D88E31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87AC6-637E-48D3-A1C9-0E90A19E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153FE-4F80-4140-A7BC-A61DECE3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F29B-5B14-4C8B-95B0-87CF862D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57504-4EE8-4D42-B65D-2360C8FC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2A448-E2C0-4293-999A-6C1E5FAF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C5321-3CF5-409A-AF4C-CCDDEC8B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C0D45-A987-4504-B1D7-190749A3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98820-83AD-4539-B011-5FBDA77A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71FE6-ADEE-4542-84AB-79F8C998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6616C-107C-4386-9555-A6B6AE95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7B582-EC6E-4799-BBF5-FF5A08CA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40070-1A76-4B9B-BE5D-699E2A1A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D9E87-87CB-43E6-BECE-1F3AF87E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C711-772B-4A05-9B27-40D56CAD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0FE19-D0E5-4F02-82AF-48161731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50E7E-17B6-437D-B403-5AA4FFBF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4C8B8-56FF-4B02-8BA9-BF8B5CC3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A5A23-EEF5-4182-B15C-7D56997A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4121C-4403-465C-AA02-3FC673DA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7BC4F-DE56-47EE-9957-3A39C050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006BC-BC22-4D71-8C56-42B66392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6ED2B-4942-4FBB-A0E3-B83CEDE6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6BA3C-EB21-4243-9862-2AB8DF52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1117D-E725-4FC9-8C72-3090C4BA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7649-7458-43CA-97CE-AA72EA78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BB14E-DA07-4B05-B370-F2CFF0BF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F8778-54C6-427E-9ECB-42CFC459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C16DF-2FE9-4457-A878-FC846468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3F94B-685C-465B-83A8-B7369645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FFB41-9CC9-4630-ABAA-159613F9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B6F2-531B-44B8-9F45-1178F2D3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7933-0275-4B85-90A7-3828D26F8D4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34BB-AFDC-4E53-81AC-6395913978D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E833-A9EF-4176-996D-F9FAB675DEC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3228-6827-4E99-8401-8CF2B0AAB84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5176-494B-4BD7-816E-026F947BD7E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6610-3A58-4AAE-A264-46F8058E411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7C63-4A37-45AD-983E-B482593ABE1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ссив элемент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(С)Озеркова Ирина Александровна, 2010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значение опера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 построении детали может потребоваться произвести несколько одинаковых операций так, чтобы образовавшиеся элементы были определенным образом упорядочен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этом случае используется операция «Массив элементов»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Рисунок 3" descr="19-1.jpg"/>
          <p:cNvPicPr/>
          <p:nvPr/>
        </p:nvPicPr>
        <p:blipFill>
          <a:blip r:embed="rId1"/>
          <a:stretch/>
        </p:blipFill>
        <p:spPr>
          <a:xfrm>
            <a:off x="1000080" y="1571760"/>
            <a:ext cx="4478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иды массив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ассив по сетк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нцентрический масси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ассив вдоль криво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еркальный масси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Рисунок 3" descr="19-2.jpg"/>
          <p:cNvPicPr/>
          <p:nvPr/>
        </p:nvPicPr>
        <p:blipFill>
          <a:blip r:embed="rId1"/>
          <a:stretch/>
        </p:blipFill>
        <p:spPr>
          <a:xfrm>
            <a:off x="2357280" y="4071960"/>
            <a:ext cx="335772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ссив по сетк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Содержимое 3" descr="19-4.jpg"/>
          <p:cNvPicPr/>
          <p:nvPr/>
        </p:nvPicPr>
        <p:blipFill>
          <a:blip r:embed="rId1"/>
          <a:stretch/>
        </p:blipFill>
        <p:spPr>
          <a:xfrm>
            <a:off x="0" y="1285920"/>
            <a:ext cx="8929800" cy="55728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4" descr="19-5.jpg"/>
          <p:cNvPicPr/>
          <p:nvPr/>
        </p:nvPicPr>
        <p:blipFill>
          <a:blip r:embed="rId2"/>
          <a:stretch/>
        </p:blipFill>
        <p:spPr>
          <a:xfrm>
            <a:off x="1143000" y="2357280"/>
            <a:ext cx="3209760" cy="270540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5" descr="19-6.jpg"/>
          <p:cNvPicPr/>
          <p:nvPr/>
        </p:nvPicPr>
        <p:blipFill>
          <a:blip r:embed="rId3"/>
          <a:stretch/>
        </p:blipFill>
        <p:spPr>
          <a:xfrm>
            <a:off x="5072040" y="2500200"/>
            <a:ext cx="30099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ассив по концентрической сетк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обходимо создать ось (например «Вспомогательная геометрия, «Ось конической поверхности»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Рисунок 3" descr="19-7.jpg"/>
          <p:cNvPicPr/>
          <p:nvPr/>
        </p:nvPicPr>
        <p:blipFill>
          <a:blip r:embed="rId1"/>
          <a:stretch/>
        </p:blipFill>
        <p:spPr>
          <a:xfrm>
            <a:off x="133200" y="3095640"/>
            <a:ext cx="8877600" cy="6667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4" descr="19-8.jpg"/>
          <p:cNvPicPr/>
          <p:nvPr/>
        </p:nvPicPr>
        <p:blipFill>
          <a:blip r:embed="rId2"/>
          <a:stretch/>
        </p:blipFill>
        <p:spPr>
          <a:xfrm>
            <a:off x="1143000" y="4071960"/>
            <a:ext cx="2666880" cy="233352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5" descr="19-9.jpg"/>
          <p:cNvPicPr/>
          <p:nvPr/>
        </p:nvPicPr>
        <p:blipFill>
          <a:blip r:embed="rId3"/>
          <a:stretch/>
        </p:blipFill>
        <p:spPr>
          <a:xfrm>
            <a:off x="5643720" y="4071960"/>
            <a:ext cx="2466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ссив вдоль криво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Содержимое 3" descr="19-10.jpg"/>
          <p:cNvPicPr/>
          <p:nvPr/>
        </p:nvPicPr>
        <p:blipFill>
          <a:blip r:embed="rId1"/>
          <a:stretch/>
        </p:blipFill>
        <p:spPr>
          <a:xfrm>
            <a:off x="428760" y="1214280"/>
            <a:ext cx="8429400" cy="38448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4" descr="19-11.jpg"/>
          <p:cNvPicPr/>
          <p:nvPr/>
        </p:nvPicPr>
        <p:blipFill>
          <a:blip r:embed="rId2"/>
          <a:stretch/>
        </p:blipFill>
        <p:spPr>
          <a:xfrm>
            <a:off x="1071720" y="2714760"/>
            <a:ext cx="2895480" cy="216216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5" descr="19-12.jpg"/>
          <p:cNvPicPr/>
          <p:nvPr/>
        </p:nvPicPr>
        <p:blipFill>
          <a:blip r:embed="rId3"/>
          <a:stretch/>
        </p:blipFill>
        <p:spPr>
          <a:xfrm>
            <a:off x="5357880" y="2571840"/>
            <a:ext cx="28861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Задание (левая половина ступицы носового колеса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Содержимое 3" descr="19-13.jpg"/>
          <p:cNvPicPr/>
          <p:nvPr/>
        </p:nvPicPr>
        <p:blipFill>
          <a:blip r:embed="rId1"/>
          <a:stretch/>
        </p:blipFill>
        <p:spPr>
          <a:xfrm>
            <a:off x="1143000" y="1571760"/>
            <a:ext cx="3214800" cy="514332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4" descr="19-3.jpg"/>
          <p:cNvPicPr/>
          <p:nvPr/>
        </p:nvPicPr>
        <p:blipFill>
          <a:blip r:embed="rId2"/>
          <a:stretch/>
        </p:blipFill>
        <p:spPr>
          <a:xfrm>
            <a:off x="5786280" y="2071800"/>
            <a:ext cx="26384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23:58:05Z</dcterms:created>
  <dc:creator>Sergey A. Filimonov</dc:creator>
  <dc:description/>
  <dc:language>en-US</dc:language>
  <cp:lastModifiedBy>Sergey A. Filimonov</cp:lastModifiedBy>
  <dcterms:modified xsi:type="dcterms:W3CDTF">2010-03-16T00:39:39Z</dcterms:modified>
  <cp:revision>5</cp:revision>
  <dc:subject/>
  <dc:title>Массив элементов</dc:title>
</cp:coreProperties>
</file>