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FAB-13C9-4BDD-86FB-CC011E6D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4B0-0C0B-4F9A-A497-626521B0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7DF-F85C-48B0-B133-9CF0F7DD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FB0-91AF-44FE-AF26-0AA7674F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8FA6-2082-4E7A-941B-F6058979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6157-0855-4F32-95FF-2AD467BA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B928-5FB6-4A50-8AE1-ED0DA4F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C833-678A-40AE-AF76-F314C5F2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8E2E-6F38-4663-BDD6-4E735AA1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42FE-CCF9-4416-B203-E0619361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0DBD-D4EA-44FB-8340-86B70E04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E89-B53E-494E-8A2A-D0E2DAA5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4B97-BAB7-4EC4-83F8-E9DC2FEA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5C12-905C-4CA2-B319-F466068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2955-D7E2-410D-8A93-E31006A6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4491-4062-4236-ACCD-FEF35DDD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E9AE-B6D6-40EB-AE4F-BA6B3B81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F0BB-892D-4A13-AE0D-68F8E00D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437C-EE02-465F-BA36-D8DD2B52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4B4C-A0A4-43F2-8CFA-6B213B17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51B5-BD38-4865-A1B0-E90A283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A5F2-8322-4955-AF9F-7F77CD99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869-B0D7-4CBD-902C-0FABB615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6419-08F7-46FE-845C-F0091A80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74D0-4C4F-4581-9D99-9D41AF7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F2A2-EAC5-4633-B63D-4B752ADC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728E-D097-44BF-967C-74A095C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F463-CFC0-492B-AB96-0377EEBF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5173-1EB4-4AA5-9B08-CFCCC63F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4A75-E993-471E-B3F8-45BA1291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EF91-8990-4AEA-AF35-996E2368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49C0-E9A4-44D5-9C4B-F5FF05D4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0A61-E1FE-49AB-8ADC-5ECEF242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346-A77B-4B91-BA3F-017E9294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E93B-AA69-439A-94B9-1AAE22B7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C2EC-020A-4B6C-B5CE-D6037798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4557-5608-41ED-A1A2-90E30FC1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47F8-6F98-4A7C-88D0-0C456E1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33A1-8105-4344-B4D0-D5979E1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F9E83-A5EF-4831-9877-22D72F4D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4930-1855-4BF5-B6A2-2B553220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5FAA7-15A0-4527-B201-07C8DF61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4EC4-1AD4-43B9-97AD-449B649F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BFFA2-AD4B-4C8D-8A58-BA2009FC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BC4-CFD5-4AD6-86D3-5A3E84B4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EE721-1AC1-48A1-8AD2-DF0D70A0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0950-F448-49EE-A178-6E404CBC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2C82-A6C7-4547-B8AF-6753360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71C84-D39D-4762-ACF2-00ABFEB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920BA-14F3-4B94-BDC7-85A36801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F1D5-CDC6-4AC2-9C7A-95004FE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0A0A-8CF5-414C-88A3-C3E846A0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0A194-721D-4C97-9C85-1E35FF3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2F7C3-8C06-4E21-885E-C653C92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534A-5605-4C5E-ABA8-3FFC2EFD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22B-2C56-4050-995F-5FE2D39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661D-2918-40C1-AF50-2A17BD4C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35917-BADF-4429-AD29-F324BB93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E642-E909-449F-BFCE-75DB3843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401F1-FE67-424B-A109-4610CBD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3537-D2CE-4712-BF08-395633B9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19B91-221D-47DF-B01E-A107B8A4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88359-042B-4448-B657-6E08AC6F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08812-BCC2-47DD-8D7F-B1D025BE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70840-A059-404C-A982-75D78A44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6D904-5474-4782-92C4-B45A5E0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720-6E2D-448A-9153-B133559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F2D2-8CAF-4F62-BAB4-66FEF7E3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D00A7-ECED-437D-92B9-50D71DC4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DFD76-E872-4CB2-B0E8-B1EB466E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E945E-4BE1-4C51-A5A6-D213DCBA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32CAA-3796-4EAC-9E62-9921FB21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A08FC-2599-4384-91AD-F9B547D3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9546E-2E91-41CE-B4C0-B11F83F1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8616-A243-40E2-AD90-28368B84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93F61-0DA1-4735-A33D-653EE379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622F-0E6E-4E04-88F8-EADD7CD9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340-6FDF-4FA8-ABC1-881D45B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CFA3E-EDE8-42C4-A2FF-1460AAA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30546-4220-4427-8B65-3DEC6E32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56E45-62F5-45BB-9B17-C0D3BB7B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70A4-22BC-43F9-A18B-8E97BE3C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CDFB5-E0E4-4260-8D43-9EF0C2BB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79A-0A17-479E-BCA1-7DE11EA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D52B-182A-4F78-A67E-3EB2AC90C4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3E36-D69E-4566-921E-37177669F4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B59-2FFE-4804-B16B-66E2BA608AD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5AFD-400E-48F1-A508-7384219FB6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D69B-5995-44F5-974C-DBC8972BC0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B400-618F-4A79-9628-BD8C74FD2C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228-664C-40C2-817D-E04017FD0EA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нтрольная работа по теме «Разрезы и сечения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Озеркова Ирина Александровна, 201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по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3" descr="19.jpg"/>
          <p:cNvPicPr/>
          <p:nvPr/>
        </p:nvPicPr>
        <p:blipFill>
          <a:blip r:embed="rId1"/>
          <a:stretch/>
        </p:blipFill>
        <p:spPr>
          <a:xfrm>
            <a:off x="2216160" y="1447920"/>
            <a:ext cx="5937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по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Содержимое 3" descr="18-2.jpg"/>
          <p:cNvPicPr/>
          <p:nvPr/>
        </p:nvPicPr>
        <p:blipFill>
          <a:blip r:embed="rId1"/>
          <a:stretch/>
        </p:blipFill>
        <p:spPr>
          <a:xfrm>
            <a:off x="2214720" y="1571760"/>
            <a:ext cx="4825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3:25:43Z</dcterms:created>
  <dc:creator>Sergey A. Filimonov</dc:creator>
  <dc:description/>
  <dc:language>en-US</dc:language>
  <cp:lastModifiedBy>Sergey A. Filimonov</cp:lastModifiedBy>
  <dcterms:modified xsi:type="dcterms:W3CDTF">2010-03-20T00:52:00Z</dcterms:modified>
  <cp:revision>2</cp:revision>
  <dc:subject/>
  <dc:title>Контрольная работа по теме «Разрезы и сечения»</dc:title>
</cp:coreProperties>
</file>