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3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29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ABE1F-CCE6-4F39-97EE-F727DEE7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B8BF-2D04-49E0-98F0-83CA7A562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692-80C2-4040-AFC6-CD3FBE8E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EAA6-5FAF-4E27-84DA-DBF8CD679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503C-ED92-42F6-A2F7-050C841AE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8EB93-3148-4C59-AE57-BCD1795A7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D8E4B-63F4-4A2F-BE70-AAEDC9EF7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1F75B-B51C-44AE-A163-7F8E32FA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CC3D-2B0A-4FA7-AC42-7D15F2A18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9D76E-4C16-47F2-A86F-C2D4454F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1E8BE-D871-42DF-91B8-595941AA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6A14-F44D-494A-B5FE-FCA1795B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8D1F-FD6E-4A8C-913E-C78AB7A7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2372F-3E8D-4DE4-9B27-E8D4219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956D-F671-47F9-B2C8-BC111DFA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D3AD-F8CB-493B-A0E7-DB7BCA457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E0CE5-64A3-4B6B-8B12-ED50A971E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3982A-B969-4B12-A72F-5A67C3E08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C27B9-A04C-4E2F-9A57-71CC48DA5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90CFE-F0C3-4CF7-9878-A22AA09B9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855C5-F796-48C3-9E57-B8DB9D01B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D5F5E-49CF-48D7-A3AB-AD5711D9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198B-C177-44A4-A1E9-B55C67DB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2DC26-274A-481F-937D-2BB882080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A0C75-571D-4818-9CE4-53B229DF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A383F-FAA7-454C-AFCB-41DC73E92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D5E9C-8786-4D40-8FA8-31EF829F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04723-FB1B-4771-A774-B05A3857C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AF196-8145-456A-8EAB-0D51FF60C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8DAAE-FE19-4BBE-87CA-92C7A1310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CFF5A-584E-4A49-9E90-60979E71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21644-B9E2-4DCD-991F-173EB34D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F5227-8108-4DEC-938B-1627EFF2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67F8-8D0E-4390-8BFB-426A28C39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6DB8C-5A44-4E4E-AF2B-18FA917C6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C39AAE-E482-4CB8-9512-6E12B879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EE8FB-0566-4AEE-AFE0-80AA9791A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64E4D2-BC4A-4496-8ADC-21CC42148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8B9B2-3153-4535-BE42-EB66C9A54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D14F8-0368-48CA-A60C-DD711A20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CAC2B9-7895-4E02-A324-ED1F4656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DDCA0-CD95-4531-B3E8-BF48FDFCA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828DE-75F7-4F60-8C2F-80876E042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70B57-F187-4F57-A24F-BCC5E784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B4126-D1E9-4724-AB67-C18969609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CA32D5-4CD5-49EA-83BA-3D9C48BF7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7ED25-BD6D-4CE2-8CCC-182F766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FF1D0-5168-4951-AC72-28FB017B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DAADB-60DA-4AB1-AE84-BFB253AB3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C8447-1CE6-4083-9F55-3562AAC85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05A1B4-E0AF-4D31-82F6-E852AC3A7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DDF2A8-5CD0-46F0-AED1-A2D1C3F9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7DDE5-3945-4C67-85AC-BA6C6FC0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344BFA-8284-4AC3-AABB-5E782D757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20CDB-5F04-4A67-8930-666E7471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336F-8D42-49AC-A299-45EA1D17B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B28B26-BB3C-432C-B766-905DDF2F3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88EC9-6637-4B1E-90E9-A4AD1D857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0705F-677B-4193-BF89-E6F60762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C4A7-625C-46EA-920D-F41A3F0F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E9849-AC15-4D8C-AD1E-BD7E8D279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133212-E23E-487C-93F6-139AC239F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B8936-D596-45E6-845E-101BBF2E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9E345-702D-4A39-A540-8C3F4A03A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1D800D-CE50-4F83-A50E-B17E3D49E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6DF29-867A-485C-BD4B-9E4D51E74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4B57-0745-4BE0-BFBA-A8560B0E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726937-6B32-49BB-AF0D-245C5D330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CB7D71-9995-4A76-9927-7068CF3D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F9D58-5F18-4C72-9369-08B789EB2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74C3F8-F43B-45A8-AE0B-BE1901F1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D1A549-8653-49A4-BDF6-CA7AE965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C16CF-CD16-40CF-AF56-CCF5D6C3B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A0178-1B7E-4926-BD28-2E7EC2E3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954986-23BE-4DA4-A023-2E0EF03D3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45D1A-B8D9-4627-83ED-B5070B1D2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EF8031-9A5C-41FC-A25D-B041F27D7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53D8-A1EC-4269-9179-2739674BD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D7BCC-09A8-4BE1-B007-05CD62EC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4A455-3262-49A0-8DB5-F1BB0811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D9E9D-AC65-4FAF-B01A-8A1E58B3B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B7816-1267-4234-A0C5-AC61373D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35A5B-F64F-4157-8799-6548EE29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20D6-E307-4BE4-9A56-2B269495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568BD-8A9F-49C3-BB66-3A3B4C0ADD1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45A1-574B-4EB3-A15D-512B22DED34D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B3A73-348C-453A-BC4C-BFED41B67E2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B8B9-4CAE-4DDE-A5EB-BA50C54C17D3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EF6A-001C-4DD6-B655-53D60A0A589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0145-549A-45CE-920D-9E40F19E28F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7838B-7045-4981-8016-3B0F3ED08EEC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резы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 Озеркова Ирина Александровна, 2010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лучение профильного разр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1" name="Содержимое 4" descr="17-8.jpg"/>
          <p:cNvPicPr/>
          <p:nvPr/>
        </p:nvPicPr>
        <p:blipFill>
          <a:blip r:embed="rId1"/>
          <a:stretch/>
        </p:blipFill>
        <p:spPr>
          <a:xfrm>
            <a:off x="1835280" y="2655720"/>
            <a:ext cx="3165480" cy="2659320"/>
          </a:xfrm>
          <a:prstGeom prst="rect">
            <a:avLst/>
          </a:prstGeom>
          <a:ln w="0">
            <a:noFill/>
          </a:ln>
        </p:spPr>
      </p:pic>
      <p:pic>
        <p:nvPicPr>
          <p:cNvPr id="342" name="Содержимое 5" descr="17-9.jpg"/>
          <p:cNvPicPr/>
          <p:nvPr/>
        </p:nvPicPr>
        <p:blipFill>
          <a:blip r:embed="rId2"/>
          <a:stretch/>
        </p:blipFill>
        <p:spPr>
          <a:xfrm>
            <a:off x="5357880" y="2786040"/>
            <a:ext cx="31050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ОБОЗНАЧЕНИЕ РАЗРЕЗ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Содержимое 5" descr="17-10.jpg"/>
          <p:cNvPicPr/>
          <p:nvPr/>
        </p:nvPicPr>
        <p:blipFill>
          <a:blip r:embed="rId1"/>
          <a:stretch/>
        </p:blipFill>
        <p:spPr>
          <a:xfrm>
            <a:off x="2714760" y="324000"/>
            <a:ext cx="4357440" cy="62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ДАНИ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строить необходимые виды и разрез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9" name="Содержимое 3" descr="17-11.jpg"/>
          <p:cNvPicPr/>
          <p:nvPr/>
        </p:nvPicPr>
        <p:blipFill>
          <a:blip r:embed="rId1"/>
          <a:stretch/>
        </p:blipFill>
        <p:spPr>
          <a:xfrm>
            <a:off x="2193840" y="1643040"/>
            <a:ext cx="6202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 видам и разрезам найдите наглядные изображения (1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1" name="Содержимое 3" descr="17-12.jpg"/>
          <p:cNvPicPr/>
          <p:nvPr/>
        </p:nvPicPr>
        <p:blipFill>
          <a:blip r:embed="rId1"/>
          <a:stretch/>
        </p:blipFill>
        <p:spPr>
          <a:xfrm>
            <a:off x="3000240" y="1643040"/>
            <a:ext cx="3733920" cy="190512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4" descr="17-13.jpg"/>
          <p:cNvPicPr/>
          <p:nvPr/>
        </p:nvPicPr>
        <p:blipFill>
          <a:blip r:embed="rId2"/>
          <a:stretch/>
        </p:blipFill>
        <p:spPr>
          <a:xfrm>
            <a:off x="1857240" y="4429080"/>
            <a:ext cx="61153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 видам и разрезам найдите наглядные изображения (2)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4" name="Содержимое 3" descr="17-14.jpg"/>
          <p:cNvPicPr/>
          <p:nvPr/>
        </p:nvPicPr>
        <p:blipFill>
          <a:blip r:embed="rId1"/>
          <a:stretch/>
        </p:blipFill>
        <p:spPr>
          <a:xfrm>
            <a:off x="3286080" y="1481040"/>
            <a:ext cx="392904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Найдите наглядные изображения и профильные разрез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6" name="Содержимое 3" descr="17-15.jpg"/>
          <p:cNvPicPr/>
          <p:nvPr/>
        </p:nvPicPr>
        <p:blipFill>
          <a:blip r:embed="rId1"/>
          <a:stretch/>
        </p:blipFill>
        <p:spPr>
          <a:xfrm>
            <a:off x="3143160" y="1714680"/>
            <a:ext cx="3781440" cy="2857320"/>
          </a:xfrm>
          <a:prstGeom prst="rect">
            <a:avLst/>
          </a:prstGeom>
          <a:ln w="0">
            <a:noFill/>
          </a:ln>
        </p:spPr>
      </p:pic>
      <p:pic>
        <p:nvPicPr>
          <p:cNvPr id="357" name="Рисунок 4" descr="17-16.jpg"/>
          <p:cNvPicPr/>
          <p:nvPr/>
        </p:nvPicPr>
        <p:blipFill>
          <a:blip r:embed="rId2"/>
          <a:stretch/>
        </p:blipFill>
        <p:spPr>
          <a:xfrm>
            <a:off x="1500120" y="4714920"/>
            <a:ext cx="6915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ечертите главный вид и постройте профильный разрез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59" name="Содержимое 3" descr="17-17.jpg"/>
          <p:cNvPicPr/>
          <p:nvPr/>
        </p:nvPicPr>
        <p:blipFill>
          <a:blip r:embed="rId1"/>
          <a:stretch/>
        </p:blipFill>
        <p:spPr>
          <a:xfrm>
            <a:off x="1357200" y="2214720"/>
            <a:ext cx="7236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МЕСТНЫЙ РАЗРЕЗ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ПОНЯТИЕ РАЗРЕЗ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ры местных разрез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3" name="Содержимое 3" descr="17-18.jpg"/>
          <p:cNvPicPr/>
          <p:nvPr/>
        </p:nvPicPr>
        <p:blipFill>
          <a:blip r:embed="rId1"/>
          <a:stretch/>
        </p:blipFill>
        <p:spPr>
          <a:xfrm>
            <a:off x="1530360" y="1500120"/>
            <a:ext cx="7005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еречертите главный вид и сделайте местный разрез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5" name="Содержимое 3" descr="17-19.jpg"/>
          <p:cNvPicPr/>
          <p:nvPr/>
        </p:nvPicPr>
        <p:blipFill>
          <a:blip r:embed="rId1"/>
          <a:stretch/>
        </p:blipFill>
        <p:spPr>
          <a:xfrm>
            <a:off x="2211480" y="1857240"/>
            <a:ext cx="608148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СОЕДИНЕНИЕ ВИДА И РАЗРЕЗА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единение части вида и части разр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9" name="Содержимое 3" descr="17-20.jpg"/>
          <p:cNvPicPr/>
          <p:nvPr/>
        </p:nvPicPr>
        <p:blipFill>
          <a:blip r:embed="rId1"/>
          <a:stretch/>
        </p:blipFill>
        <p:spPr>
          <a:xfrm>
            <a:off x="1428840" y="1714680"/>
            <a:ext cx="2786040" cy="4554360"/>
          </a:xfrm>
          <a:prstGeom prst="rect">
            <a:avLst/>
          </a:prstGeom>
          <a:ln w="0">
            <a:noFill/>
          </a:ln>
        </p:spPr>
      </p:pic>
      <p:pic>
        <p:nvPicPr>
          <p:cNvPr id="370" name="Рисунок 4" descr="17-21.jpg"/>
          <p:cNvPicPr/>
          <p:nvPr/>
        </p:nvPicPr>
        <p:blipFill>
          <a:blip r:embed="rId2"/>
          <a:stretch/>
        </p:blipFill>
        <p:spPr>
          <a:xfrm>
            <a:off x="4143240" y="2643120"/>
            <a:ext cx="479268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оединение половины вида и половины разр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Если деталь симметричная, то соединяют половину вида с половиной разреза. В этом случае осевая линия является разделительной. Если с осью симметрии совпадает линия контура, то части соединяют так, чтобы линия не исчезла с чертежа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73" name="Рисунок 3" descr="17-22.jpg"/>
          <p:cNvPicPr/>
          <p:nvPr/>
        </p:nvPicPr>
        <p:blipFill>
          <a:blip r:embed="rId1"/>
          <a:stretch/>
        </p:blipFill>
        <p:spPr>
          <a:xfrm>
            <a:off x="3571920" y="4000680"/>
            <a:ext cx="33433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авила соединен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84640" indent="-504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рез отображается справа или внизу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На половине вида внутренняя форма не отображается (отсутствуют линии невидимого контура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84640" indent="-50400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Размерные линии, относящиеся к элементам вида или разреза, проводят несколько дальше оси и ограничивают стрелкой с одной стороны, размер при этом указывают полный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Corbel"/>
              </a:rPr>
              <a:t>Заменить вид спереди соединением половины вида с половиной разреза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77" name="Содержимое 3" descr="17-23.jpg"/>
          <p:cNvPicPr/>
          <p:nvPr/>
        </p:nvPicPr>
        <p:blipFill>
          <a:blip r:embed="rId1"/>
          <a:stretch/>
        </p:blipFill>
        <p:spPr>
          <a:xfrm>
            <a:off x="2786040" y="1349280"/>
            <a:ext cx="5072040" cy="52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ОНКИЕ СТЕНКИ И СПИЦЫ НА РАЗРЕЗ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екущая плоскость проходит вдоль тонкой стенки или спиц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1" name="Содержимое 5" descr="17-24.jpg"/>
          <p:cNvPicPr/>
          <p:nvPr/>
        </p:nvPicPr>
        <p:blipFill>
          <a:blip r:embed="rId1"/>
          <a:stretch/>
        </p:blipFill>
        <p:spPr>
          <a:xfrm>
            <a:off x="1432080" y="2000160"/>
            <a:ext cx="3260520" cy="330372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6" descr="17-25.jpg"/>
          <p:cNvPicPr/>
          <p:nvPr/>
        </p:nvPicPr>
        <p:blipFill>
          <a:blip r:embed="rId2"/>
          <a:stretch/>
        </p:blipFill>
        <p:spPr>
          <a:xfrm>
            <a:off x="5076720" y="2571840"/>
            <a:ext cx="353376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Секущая плоскость проходит поперёк тонкой стенки или спицы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4" name="Содержимое 3" descr="17-26.jpg"/>
          <p:cNvPicPr/>
          <p:nvPr/>
        </p:nvPicPr>
        <p:blipFill>
          <a:blip r:embed="rId1"/>
          <a:stretch/>
        </p:blipFill>
        <p:spPr>
          <a:xfrm>
            <a:off x="2143080" y="1785960"/>
            <a:ext cx="543240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рез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это изображение предмета, полученное при мысленном рассечении детали одной или несколькими секущими плоскостя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Разрез отличается от сечения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м, что на нём показывают не только то, что находится в секущей плоскости, но и то, что за не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Мысленно соедините элементы детали и выполните эскиз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6" name="Содержимое 3" descr="17-27.jpg"/>
          <p:cNvPicPr/>
          <p:nvPr/>
        </p:nvPicPr>
        <p:blipFill>
          <a:blip r:embed="rId1"/>
          <a:stretch/>
        </p:blipFill>
        <p:spPr>
          <a:xfrm>
            <a:off x="3013200" y="1943280"/>
            <a:ext cx="4343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бразование разрез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5" name="Содержимое 3" descr="17-1.jpg"/>
          <p:cNvPicPr/>
          <p:nvPr/>
        </p:nvPicPr>
        <p:blipFill>
          <a:blip r:embed="rId1"/>
          <a:stretch/>
        </p:blipFill>
        <p:spPr>
          <a:xfrm>
            <a:off x="1000080" y="2071800"/>
            <a:ext cx="3484440" cy="3786120"/>
          </a:xfrm>
          <a:prstGeom prst="rect">
            <a:avLst/>
          </a:prstGeom>
          <a:ln w="0">
            <a:noFill/>
          </a:ln>
        </p:spPr>
      </p:pic>
      <p:pic>
        <p:nvPicPr>
          <p:cNvPr id="326" name="Рисунок 4" descr="17-2.jpg"/>
          <p:cNvPicPr/>
          <p:nvPr/>
        </p:nvPicPr>
        <p:blipFill>
          <a:blip r:embed="rId2"/>
          <a:stretch/>
        </p:blipFill>
        <p:spPr>
          <a:xfrm>
            <a:off x="4786200" y="1285920"/>
            <a:ext cx="2857680" cy="2838240"/>
          </a:xfrm>
          <a:prstGeom prst="rect">
            <a:avLst/>
          </a:prstGeom>
          <a:ln w="0">
            <a:noFill/>
          </a:ln>
        </p:spPr>
      </p:pic>
      <p:pic>
        <p:nvPicPr>
          <p:cNvPr id="327" name="Рисунок 5" descr="17-3.jpg"/>
          <p:cNvPicPr/>
          <p:nvPr/>
        </p:nvPicPr>
        <p:blipFill>
          <a:blip r:embed="rId3"/>
          <a:stretch/>
        </p:blipFill>
        <p:spPr>
          <a:xfrm>
            <a:off x="4786200" y="4000680"/>
            <a:ext cx="285768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Как построить разрез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остроить соответствующий вид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Мысленно провести плоскость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евратить штриховые линии в основ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Убрать лишние линии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595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ить штриховку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ВИДЫ РАЗРЕЗОВ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Разрезы бывают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Прост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Фронта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Горизонта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Профиль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Местн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Сложны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rbel"/>
              </a:rPr>
              <a:t>Ступенчатые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лучение фронтального разр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5" name="Содержимое 5" descr="17-4.jpg"/>
          <p:cNvPicPr/>
          <p:nvPr/>
        </p:nvPicPr>
        <p:blipFill>
          <a:blip r:embed="rId1"/>
          <a:stretch/>
        </p:blipFill>
        <p:spPr>
          <a:xfrm>
            <a:off x="1835280" y="2727360"/>
            <a:ext cx="2857320" cy="2257560"/>
          </a:xfrm>
          <a:prstGeom prst="rect">
            <a:avLst/>
          </a:prstGeom>
          <a:ln w="0">
            <a:noFill/>
          </a:ln>
        </p:spPr>
      </p:pic>
      <p:pic>
        <p:nvPicPr>
          <p:cNvPr id="336" name="Содержимое 6" descr="17-5.jpg"/>
          <p:cNvPicPr/>
          <p:nvPr/>
        </p:nvPicPr>
        <p:blipFill>
          <a:blip r:embed="rId2"/>
          <a:stretch/>
        </p:blipFill>
        <p:spPr>
          <a:xfrm>
            <a:off x="5676840" y="2084400"/>
            <a:ext cx="285768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Получение горизонтального разреза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38" name="Содержимое 4" descr="17-6.jpg"/>
          <p:cNvPicPr/>
          <p:nvPr/>
        </p:nvPicPr>
        <p:blipFill>
          <a:blip r:embed="rId1"/>
          <a:stretch/>
        </p:blipFill>
        <p:spPr>
          <a:xfrm>
            <a:off x="1835280" y="2060640"/>
            <a:ext cx="2857320" cy="3591000"/>
          </a:xfrm>
          <a:prstGeom prst="rect">
            <a:avLst/>
          </a:prstGeom>
          <a:ln w="0">
            <a:noFill/>
          </a:ln>
        </p:spPr>
      </p:pic>
      <p:pic>
        <p:nvPicPr>
          <p:cNvPr id="339" name="Содержимое 5" descr="17-7.jpg"/>
          <p:cNvPicPr/>
          <p:nvPr/>
        </p:nvPicPr>
        <p:blipFill>
          <a:blip r:embed="rId2"/>
          <a:stretch/>
        </p:blipFill>
        <p:spPr>
          <a:xfrm>
            <a:off x="5676840" y="2313000"/>
            <a:ext cx="285768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0:40:14Z</dcterms:created>
  <dc:creator>Sergey A. Filimonov</dc:creator>
  <dc:description/>
  <dc:language>en-US</dc:language>
  <cp:lastModifiedBy>Sergey A. Filimonov</cp:lastModifiedBy>
  <dcterms:modified xsi:type="dcterms:W3CDTF">2010-02-13T03:30:19Z</dcterms:modified>
  <cp:revision>20</cp:revision>
  <dc:subject/>
  <dc:title>Разрезы</dc:title>
</cp:coreProperties>
</file>