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8903-3427-4CF3-ADD8-BFAA6AD6E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837B-A95B-43A8-A589-05A903BDB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7A0F-2C58-449D-9FF0-03D667ED0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AFD5-C4B6-48F2-9812-854400990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5C478-0EFE-481C-81A7-F749520E1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8DCA8-8934-4307-9BCB-F67B8759F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C25DB-6657-4A63-9F06-5078FD95F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E7DF4-49F1-4FAF-A7B6-24F6B168C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6CFBB-E591-4A28-954F-9CE314B5D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7867B-AC12-4CA3-AC5E-05F4A2836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4DC97-D9FD-4972-831F-6BAB18BC6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930B-F238-42B7-A5EC-87F9A915D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417B2-62FB-47AA-BE13-4041EB1A4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3913B-4F19-49DE-8F5C-89D130156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C6A72-4BB0-4A55-96E0-570F65F35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E8E40-8D2F-4457-8638-D0C2168C0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D45D2-BD38-495A-A5EE-00051F782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F50B5-6201-41DC-B3C3-C362628C9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C2206-059E-4F70-AC0F-BA5A0D022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27EDB-6772-43C1-80A5-3F6A251BA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F6E3A-8257-4E92-90C4-B94EC612A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7E2CE-CBB5-493E-9576-572697AE5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E6B9-D3EA-44BA-B225-C57909E33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1ECDE-496C-4027-A26D-63796F6B6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4CE65-F1E3-42BF-8675-5F27A3737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E55F6-1D4D-439C-8D2B-4348B6508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787A2-E1F7-4094-9488-0000E22B3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AB464-65FD-4658-B40C-EB0A2A4CD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F6FC6-8314-492D-A042-FED283EFD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5A764-4802-4284-B600-7385AB9DD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C3149-5F50-4662-90E3-3C3416D71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362F1-A4F8-4876-974D-2E0866D12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DD11C-C1EB-4D26-A866-5FD2D68D1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137D-01BC-4E25-8FCA-8E5C55051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1A638-58E9-4AC9-B5C2-31F02E3AE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30F76-54DD-4499-8A4E-1BB3D47ED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6EEF1-7DAA-4C72-94C4-75EBC574E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821DC-360D-4914-AE98-B427BE288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553B1-E551-49D6-B79D-EA12FBBCD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94595-9C99-425B-B477-DB81BC32F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FA72F-0868-45DD-8F47-76A3E6A65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3089D-A91C-43BF-8CD7-DFD772589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3ED81-4D86-4335-9E67-DA8B7BE40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E81C58-8A78-44F3-9554-DCDE0B040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CC47-C5FE-44CE-AADD-2C66CBBD4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B06BE5-6395-422E-B80B-1CC302C1E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0658D-93AD-4A6C-ADD8-B7BCEFA3E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EFCBC5-D3D3-4D22-BDBC-D9DF891A9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790810-D264-4C79-96DE-428561593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9A8861-61A9-438E-8C24-27921EA17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339380-22A3-4A37-B744-E4265AD9C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38CFE5-830B-4E9C-A3C4-9951D1314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74D16B-3D96-43AF-AB02-7BBF39BD3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EF5060-2657-4ED8-A32C-7DFFADE1A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363EB3-AEC2-42F1-890A-2E1330750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B7FF-5F71-485D-A2E7-4EBBC12A4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AA0A3C-1A6A-493E-80A1-63D55DFD2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F73E8B-F7AD-4304-B753-631100A7D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3DFE61-E8C9-45F1-AD55-5BEE49603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E226DA-6648-46A5-8BFA-37EA1AC23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E7EE8F-14AA-40F8-BFE4-EF5F9358A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BC1A20-77F3-48EB-B32D-A5528DCAA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45C5DF-C553-4F1F-9805-9CE37F7A0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A128F7-19B2-46FC-A45D-5FF4EFABB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0F4E89-1657-40D0-84DB-3587CAB27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17FA77-EE1E-4236-A392-A57CF2276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8D40-CF6B-4833-B505-7959B4408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DBCB26-50F0-447A-B5EF-08DAACF69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91F556-5391-4D68-8B98-84D3B087B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E096FA-F83F-47DA-B6B4-430597D48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106F04-B663-4BEB-8B68-DDB39B4C1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DDEC76-3EB4-4231-AD7A-339D542EE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411ABF-FE05-4BD3-B780-8EA939681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93DA31-EE66-4A47-9382-944103F9E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1B394A-0773-4038-8B98-ECFDBF403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25C930-3D73-45A9-AF24-611DC5A3E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DCF142-C9D9-4022-85FC-776B5DAE2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5769-8E74-4C0B-9FC2-9EA8CAF04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912414-A7E7-4AF0-BFBF-54D4A235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BD5541-3A5B-4800-A230-67B182290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57E846-B715-4688-BBE5-94E1B4BDB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A254EF-6764-4994-B24E-19BB081D4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058EB5-7ED3-47BC-A98A-B4A0F3EB2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D027-A30F-4112-9A53-2C67293E8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8D33C-0ECB-490A-85CE-96480B20CBB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4D477-BF06-4944-80C7-1FC80893FED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B74D3-8D22-4F8C-864E-547E2248EB9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8670E-70BE-4E4F-8F46-B110371D2D4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DFABD-6BE8-4FB6-966B-07151CA90CD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B1AA3-B0E3-40FE-9095-380A5FE11E2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4728C-7D80-4E25-9D31-7A8E70CC8F1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Использование сечений в моделировани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(С) Озеркова Ирина Александровна, 2010 г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орядок построени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35680" indent="-462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строить все необходимые сечени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35680" indent="-462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ыбрать операцию «по сечениям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35680" indent="-462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ыбрать эскизы сечений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35680" indent="-462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и необходимости задать осевую линию, способы построения крайних сечений, параметры траектори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35680" indent="-462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Задать параметры тонкой стенк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35680" indent="-462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ажать кнопку «создать объект» (автоматически не создаётся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9" name="Рисунок 3" descr="16-3.jpg"/>
          <p:cNvPicPr/>
          <p:nvPr/>
        </p:nvPicPr>
        <p:blipFill>
          <a:blip r:embed="rId1"/>
          <a:stretch/>
        </p:blipFill>
        <p:spPr>
          <a:xfrm>
            <a:off x="7929720" y="142920"/>
            <a:ext cx="642960" cy="13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Важно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и изменении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порядка следования эскизов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сечений результат изменяетс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314"/>
                </a:solidFill>
                <a:latin typeface="Corbel"/>
              </a:rPr>
              <a:t>ЗАДАНИЕ (ПОСТРОЕНИЕ ВАЗЫ)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2577960" y="1066680"/>
            <a:ext cx="6400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320e0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Вспомогательные плоскост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5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ыберите горизонтальную осевую плоскость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стройте вспомогательные плоскости последовательно на расстояниях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0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На плоскостях, начиная с нижней, постройте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авильный восьмиугольник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вадрат с меньшим диаметром окружност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авильный восьмиугольник большого диаметр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Ещё больший круг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Формообразующие операци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5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стройте  элемент «по сечениям», используя различный порядок сечений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Заделайте отверстие при помощи элемента выдавливани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Задайте свойства детали: цвет, прозрачность и т. п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Результат выполнени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1" name="Содержимое 3" descr="16-1.jpg"/>
          <p:cNvPicPr/>
          <p:nvPr/>
        </p:nvPicPr>
        <p:blipFill>
          <a:blip r:embed="rId1"/>
          <a:stretch/>
        </p:blipFill>
        <p:spPr>
          <a:xfrm>
            <a:off x="3000240" y="1432080"/>
            <a:ext cx="429912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314"/>
                </a:solidFill>
                <a:latin typeface="Corbel"/>
              </a:rPr>
              <a:t>ВСПОМОГАТЕЛЬНАЯ ПЛОСКОСТЬ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577960" y="1066680"/>
            <a:ext cx="6400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320e0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Любой эскиз можно провести только в некоторой плоскости. Если, кроме координатных плоскостей, других нет, то их надо построить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Вспомогательные плоскости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е являются основным объектами изображения, поэтом в окончательном варианте их можно скрыть, как и вспомогательные прямые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Чтобы построить вспомогательную плоскость надо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ткрыть панель «Вспомогательная геометрия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ыбрать тип построения плоскост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Задать объект, к которому осуществляется привязка (например, существующую плоскость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Задать требуемые параметр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6" name="Рисунок 5" descr="16-2.jpg"/>
          <p:cNvPicPr/>
          <p:nvPr/>
        </p:nvPicPr>
        <p:blipFill>
          <a:blip r:embed="rId1"/>
          <a:stretch/>
        </p:blipFill>
        <p:spPr>
          <a:xfrm>
            <a:off x="1357200" y="5286240"/>
            <a:ext cx="7072560" cy="8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Типы вспомогательных плоскостей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Смещённая на заданное расстояние (параллельная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лоскость через три указанные точки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лоскость, проходящая через ребро под заданным углом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лоскость, проходящая через ребро и вершину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араллельная плоскость, проходящая через вершину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лоскость, проходящая через вершину, перпендикулярная ребру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лоскость, нормальная (перпендикулярная) другой плоскости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лоскость, проходящая через ребро параллельно (перпендикулярно) другому ребру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лоскость, проходящая через ребро параллельно (перпендикулярно) грани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Касательная плоскость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Средняя плоскость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Использовани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спомогательные плоскость используются для построения любых эскизов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собенно часто они используются при построении деталей с использованием операции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«по сечениям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314"/>
                </a:solidFill>
                <a:latin typeface="Corbel"/>
              </a:rPr>
              <a:t>ОПЕРАЦИЯ «ПО СЕЧЕНИЯМ»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2577960" y="1066680"/>
            <a:ext cx="6400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320e0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Назначение операци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перация «по сечениям» предназначена для создания деталей на основе двух и более эскизов сечений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ыделять эскизы перед началом операции не обязательно, это можно сделать в ходе её выполнения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Требования к эскизам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orbel"/>
              </a:rPr>
              <a:t>Эскиз-сечение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Эскизы могут быть расположены в произвольно ориентированных плоскостях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Эскиз начального (конечного) сечения может содержать контур или точку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Эскиз промежуточного сечения может содержать только контур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Контур в эскизе может быть только один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Контуры в эскизах должны быть или все замкнуты, или все разомкнуты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orbel"/>
              </a:rPr>
              <a:t>Эскиз-осевая линия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В эскизе может быть только один контур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Контур может быть разомкнутым или замкнутым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Контур должен пересекать плоскости всех эскизов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Эскиз должен лежать в плоскости, не параллельной плоскостям эскизов сечений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Для корректного формирования элемента по сечениям рекомендуется начинать построение осевой линии в плоскости первого сечения, а заканчивать - в плоскости последнего.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6T01:39:35Z</dcterms:created>
  <dc:creator>Sergey A. Filimonov</dc:creator>
  <dc:description/>
  <dc:language>en-US</dc:language>
  <cp:lastModifiedBy>Sergey A. Filimonov</cp:lastModifiedBy>
  <dcterms:modified xsi:type="dcterms:W3CDTF">2010-01-26T02:36:34Z</dcterms:modified>
  <cp:revision>6</cp:revision>
  <dc:subject/>
  <dc:title>Построение деталей по сечениям</dc:title>
</cp:coreProperties>
</file>