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3058-A656-4EDD-BC77-157DA5F06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950D-5061-480C-8156-708E7113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4BCE-A919-4B01-8360-61DDE3809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0B45-129C-4BDF-9EEA-0E9EC657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03CD0-3E71-479F-AD2F-51EF7C8C6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783AA-A49C-4E2B-939C-DBA92E75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986A-31EF-4D6B-B6F4-87985CE62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FBE5F-3B7D-4802-A8D1-04620B1C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2FD20-D786-4689-BB0C-6A73E94D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C01D-3FAD-4F57-A07D-35BFEAB7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A0585-DA32-4597-95AE-5F79786A5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D970-1816-4F05-90E5-1F470B5F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2813-0297-4CB9-AAF1-1A2E58DD1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0C3F4-0690-47F1-92D5-BB002CEF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C0F8-EA94-4DE3-A8B1-A8292432C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414A-7BC3-4C5C-B04C-98B76D321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34873-779D-430F-BCE1-9F3FB2CB3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3CD54-72C1-4FCA-8BC7-02DC3B81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FC291-E0A7-497F-B809-D8E46A9C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BDD76-6FC5-46A0-B528-85C81B76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F16CB-79B7-40FF-81B4-95710061B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6F95E-F39F-4385-B1E3-782E20565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CA7A-757B-4FBD-8E9B-83DE959B0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DEBAA7-C5BE-4D15-9555-FDDDBE2ED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C799A-C069-4050-BA71-54ADF2FF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E4BB8B-1653-4B79-B9B7-0DCB64A89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2184A4-7AF7-414B-80EA-A645C1E0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3EB4C-9527-4373-8EEE-65F1D7371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06A36-859C-4EA2-8144-4E9E91470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D0688-FFE8-4F1B-A04B-6062ACA13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A99044-B39D-4F4B-B10D-A8FC9F3EF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A5B5F-1DBB-4494-88E5-25E3411B3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4212F-613E-4AD3-A56F-BA9B6471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DC9CB-6563-4037-A26F-482390BE1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6FA49E-49E1-4B21-9B60-0F7646CE1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771BD-D982-4561-831E-B2B64768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5B23CF-5017-4077-8458-18B64AA3F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67D2B-02E6-41A9-BA75-AE1A0E10D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7E9531-BF08-445B-B6D1-3F229057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70F7A-9952-4482-BB0B-9ACFB504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D3F8CB-B9D7-4C7D-9D97-3CA20132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BC0D31-06B0-4B42-B12A-69291D5C1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7BB8B-B2F2-49D1-B565-20F0F9EDD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F799B-3494-4A84-9195-276FF2233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DB5F-C4FA-4CDE-A213-73F443DA2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19650A-BBF8-4758-AF79-1E4732723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FF63D-96A3-4AB9-80CF-9BB6D979A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7EF33-4B84-4B7B-9903-7A6C3B80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46F37-9E4B-4811-86B0-19452068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96A012-A269-49CA-94CC-C87A4E425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F1E3D-73BA-4491-9A63-1338BF312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67F65-78FE-42D2-9D34-CAC56C11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C0CC2-3037-4CEC-A220-881D9E1A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8C9C05-ACD9-42D8-93C1-48E4A9062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36DE5B-D171-4A8F-8C4B-8C4F08CB6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FCC0-E09D-4D2D-97E6-0A2E47308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CD4E83-59DD-4117-BD80-AA6BC93FB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0BAE1-CD56-4454-8B39-AAA23E9A9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50BEC-9E98-4153-8365-4FDA8580C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226C53-668E-44B3-B8BA-C722DFD75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7A2123-8E34-4DC5-B332-EDF58E516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8DB5BC-B4DE-4795-86A9-90D5367F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DE6DC0-C745-4F6D-86FF-9E54936DC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26766-AFF4-4BE8-BEEF-2AAFB1FD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5DA56-8855-413B-98D1-8CF5FF5CA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55A21-C842-484E-B929-2E2AB7DA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23B91-1567-4A3E-8FF2-D770A29FB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40902-1E5C-4F1A-AEC3-47A24A70D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31EF2-ADCB-4A95-8E9A-DE416E422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4D752B-C48C-477A-B4E2-40A13A40D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7B7D2-9D35-44C6-BCE5-2BE4B2AA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469A9-D4F9-45A5-B295-5DFCAA92E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95574-2A9B-48A6-9690-88D5CA470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B4368-8EE0-4802-BC4F-33DA2ADC7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C3D0C-7972-4D4E-B4AD-37138B96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2291E4-0EE4-4F98-A257-4C61E7CC4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88A3E-A832-483B-BC6E-9B4543D5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874E-5353-4F25-859C-3FDCC7BA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C07DE-0036-488D-9DEC-ACC7188D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F29F5-0DBD-4CE0-960C-C1C3AD70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12CCF9-3550-46F0-B8D8-768CC019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F9CB55-4461-4E76-B9FA-93EFD238B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C84A6-1EFB-412C-B050-91279B29A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F6CA-1F76-44E7-AB77-FD1A6A97C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DE42-9C6E-47CB-B245-148AE7571C0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BB61-8047-4FAD-8E11-535A3CC0DBD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812E8-812F-40B9-A2F4-40AFE8416CF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1B70F-1F4B-4EFE-9A2C-C8675635FE4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D136-DCA5-4416-9550-C994D8B8B41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7152-A772-4BB8-AD76-05C30B865B1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rbe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AA27C-1811-4BE5-8823-03EC21E643F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Технический рисунок и эскиз.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4680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(С)Озеркова Ирина Александровна, 2009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ЗАДАНИЕ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Выполните  эскиз детали с натуры в необходимом количестве видов и её технический рисунок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ТЕХНИЧЕСКИЙ РИСУНОК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сновные понят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ехнический рисунок 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– это наглядное изображение, выполненное от руки по правилам аксонометрии с соблюдением пропорций на глаз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Технический рисунок удобно выполнять на бумаге в клетку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Штриховка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Для большего отображения наглядности на технических рисунках наносят штриховк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Свет при этом падает 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слева сверху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Освещённые поверхности оставляют светлым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Для затенённых поверхностей штриховка тем чаще, чем темнее поверхность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ример штриховки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7" name="Содержимое 3" descr="15-1.jpg"/>
          <p:cNvPicPr/>
          <p:nvPr/>
        </p:nvPicPr>
        <p:blipFill>
          <a:blip r:embed="rId1"/>
          <a:stretch/>
        </p:blipFill>
        <p:spPr>
          <a:xfrm>
            <a:off x="1411200" y="1357200"/>
            <a:ext cx="7467840" cy="49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</a:rPr>
              <a:t>Штриховка геометрических тел</a:t>
            </a:r>
            <a:endParaRPr b="0" lang="en-US" sz="39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29" name="Содержимое 5" descr="15-2.jpg"/>
          <p:cNvPicPr/>
          <p:nvPr/>
        </p:nvPicPr>
        <p:blipFill>
          <a:blip r:embed="rId1"/>
          <a:stretch/>
        </p:blipFill>
        <p:spPr>
          <a:xfrm>
            <a:off x="2714760" y="1357200"/>
            <a:ext cx="1257120" cy="4762440"/>
          </a:xfrm>
          <a:prstGeom prst="rect">
            <a:avLst/>
          </a:prstGeom>
          <a:ln w="0">
            <a:noFill/>
          </a:ln>
        </p:spPr>
      </p:pic>
      <p:pic>
        <p:nvPicPr>
          <p:cNvPr id="330" name="Рисунок 6" descr="15-3.jpg"/>
          <p:cNvPicPr/>
          <p:nvPr/>
        </p:nvPicPr>
        <p:blipFill>
          <a:blip r:embed="rId2"/>
          <a:stretch/>
        </p:blipFill>
        <p:spPr>
          <a:xfrm>
            <a:off x="5715000" y="1285920"/>
            <a:ext cx="152388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577960" y="260028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44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572314"/>
                </a:solidFill>
                <a:latin typeface="Corbel"/>
              </a:rPr>
              <a:t>ЭСКИЗ 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577960" y="1066680"/>
            <a:ext cx="64008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320e04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Основные понятия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Эскиз</a:t>
            </a: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 – чертёж, который выполняется по правилам прямоугольного проецирования от руки с соблюдением пропорций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скизы выполняются в соответствии со стандартами ЕСКД на чертежи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Эскиз обычно выполняют на бумаге в клетку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Порядок выполнения эскизов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65560" indent="-488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ыявление геометрической формы детали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Выбор главного вида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Установить количество видов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565560" indent="-48852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orbel"/>
              </a:rPr>
              <a:t>Построить изображ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lvl="1" marL="826560" indent="-488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чертить рамку и основную надпис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26560" indent="-488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Вычертить габаритные прямоугольники с осями симметрии (если есть)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26560" indent="-488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нести внешние (видимые) контуры без мелких деталей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26560" indent="-488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нести невидимые части и мелкие элементы детал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26560" indent="-488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Нанести выносные и размерные линии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26560" indent="-488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Обмерить деталь и нанести размеры, обвести эскиз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  <a:p>
            <a:pPr lvl="1" marL="826560" indent="-488520">
              <a:lnSpc>
                <a:spcPct val="80000"/>
              </a:lnSpc>
              <a:spcBef>
                <a:spcPts val="550"/>
              </a:spcBef>
              <a:buClr>
                <a:srgbClr val="3891a7"/>
              </a:buClr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rbel"/>
              </a:rPr>
              <a:t>Заполнить основную надпись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23:25:45Z</dcterms:created>
  <dc:creator>Sergey A. Filimonov</dc:creator>
  <dc:description/>
  <dc:language>en-US</dc:language>
  <cp:lastModifiedBy>209</cp:lastModifiedBy>
  <dcterms:modified xsi:type="dcterms:W3CDTF">2009-12-09T10:33:45Z</dcterms:modified>
  <cp:revision>7</cp:revision>
  <dc:subject/>
  <dc:title>Технический рисунок. Эскиз.</dc:title>
</cp:coreProperties>
</file>