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531-FDF4-48A0-9937-4AF1BAFF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242-8D83-4E13-A0E1-C4BEDED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345-BEBA-42D1-BC4B-CEF8D2E9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760-941E-465E-A778-7AE63571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1FA1-2CAB-403F-B7CC-153A0648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2C50-E37E-4AAE-9797-847A871D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155F-9F25-452B-8B2C-2A196D4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E940-9BF1-4A75-B575-04A6B795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A0F8-1083-447C-B9D0-E0F3FBE7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5289-DAE5-4EE1-B510-525423E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13B8-7C1D-458D-A3D2-FADD0F5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ED7-455E-4025-A297-A11CE6D1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E26A-A70D-45ED-824A-2A64A607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BAC4-460E-417B-A415-D3F57A4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14CE-2A06-4D1D-BC20-10A2ADD0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7591-4EFF-40CD-98D3-A3A9231E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759-82E4-4D64-91D1-57101BC1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3799-EEA1-49A3-8E4B-37483837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636B-B7DA-4F8B-877B-9ACE3FDD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7448-3FFF-414D-A6AC-38528C99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40B3-39B0-4A7B-8C6C-2976B328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920A-1D5B-4890-A72F-ED30778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79B-5641-45B8-903B-87416D8A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B8AC-91AE-47BA-93E5-5FF9D707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D9E4-8DB5-4074-948F-BDF3826F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1CA2-A63D-47A4-AD92-2297DD17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1565-034D-4E33-9974-A93DC407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00F3-1798-466C-BF73-67FEABE8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1A4F-CABB-4C88-A800-4CF8D095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5816-2027-4B60-BD9B-B54435C7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8AA66-9754-4B10-A93D-2957BDB4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6BB3-99BB-49EB-BBEE-0E08FA0D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2962-9CAB-448A-87F9-533F22C2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C3E-330F-447B-A525-461DBDA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0351-4100-45E1-8B60-82C29A06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118B-6217-4555-B62C-F663264D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9187-5E13-4A4E-AD5B-DA248EB9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F1AB-44CF-4653-A5BE-DBCE5CE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E425-3902-46BE-BB22-2215242F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82C1-A720-4579-8215-E1EAF71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48F6-F647-4086-8FE8-DF4D74F0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6595-7CE1-43E0-AAC1-89A0260A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1EC0-9651-477F-A00C-B114F854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7E74A-2317-431B-8FF3-05B21ABC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ED7-A2E6-4F69-BBAF-F3995DC0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0142-12CA-40AA-BF1E-4260664E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0C64-2183-4A18-B689-AFE3C26D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E3FEA-3A22-4858-B68E-E44CA215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1F649-F5E8-4006-B66D-7489B11B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F0BA-46A4-408C-B24F-609AC1F7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3D975-6A06-4ADB-BBAE-B2E8FBCB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0A500-D9A9-4DEB-A009-9621B53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F578-B8CD-41A5-87C2-BA17ED1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199B-E9E7-468F-8788-3B0E2FDF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82C1E-79DD-40EB-B1C1-3EDD535D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794-A64E-4AFB-91D6-5DCAD88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C3A5-7EE7-4F02-972E-6A97CCF6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F702-41A8-4588-928F-2F03CDBC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420E-EC09-491A-AE10-A748FF76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8BB06-42EE-4158-9B35-48AC06F7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045C-B225-4EA4-B322-99BD47C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7E2B-0827-4DEC-BACF-D5E6156F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213BB-457C-4B41-9611-03E57558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7C7D2-0AEB-49CC-8FA4-B42DAF2A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76FAF-678E-45D8-B357-1E91953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D9827-EC78-4EC4-982C-7AE58C68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2E9-8E4B-42CF-9ACA-2211A32D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5811B-F318-405D-ABE5-0951AC80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9B5B-6DEE-4E51-B99A-6B3B0A89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E4FBC-8F86-4FFD-8425-53D94E14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A45C-0818-4CA2-BFA2-292F1201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EFA79-08FC-40FC-AC9A-9C01BDE1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8B47-91EC-452A-8350-E9DBF0D4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A466-A3C7-431A-BBE2-05D55C7B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223E7-7ED6-4299-9C14-70F66D6D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97F3A-5CB2-4E4D-A5A6-D2328D7C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4B1BD-F21E-419E-BA3D-8B959300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DCC-07E0-41F4-AE29-6EE62EFD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C1D0-F087-4DFF-98B6-490AF34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BFBFC-22EE-4E9D-A22E-417DE36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4685-2E24-41D7-BFC5-D77E6CA6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DDA9C-C496-4013-A94A-C9B3987E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167C2-7CC1-41FF-8860-83FC2F2D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E17-A90D-4F98-A94E-D591BB90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D0A2-5888-4DF9-93FF-7CA4FA56C1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830B-72A7-4595-9691-5830F8664E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8796-8086-479A-B614-7C1B646D8C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2F72-6686-4845-8C69-A898C1878E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534D-ECF5-4693-A3C0-08858922AD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546E-58CF-4AC2-9062-F610C23EE5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5127-8129-48BA-9703-3861DC4FEE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пря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пряжение параллельных прямых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180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метить первую точку сопря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в этой точке перпендикуляр до пересечения со второй прямой (вторая точка сопряжени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делить полученный отрезок пополам (центр сопряжени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дугу из центра заданным радиусом до точек сопря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Содержимое 3" descr="14-3.jpg"/>
          <p:cNvPicPr/>
          <p:nvPr/>
        </p:nvPicPr>
        <p:blipFill>
          <a:blip r:embed="rId1"/>
          <a:stretch/>
        </p:blipFill>
        <p:spPr>
          <a:xfrm>
            <a:off x="3929040" y="285840"/>
            <a:ext cx="265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ОПРЯЖЕНИЕ ОКРУЖНОСТЕ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нешнее сопряж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центра первой окружности провести дугу с радиусом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+R1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из второй – дугу с центром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+R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до пересечения (центр сопряжени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отрезки, соединяющие центры данных дуг с новой (точки пересечения – точки сопряжени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дугу заданным радиусом из центра сопряжения до точек сопря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14-4.jpg"/>
          <p:cNvPicPr/>
          <p:nvPr/>
        </p:nvPicPr>
        <p:blipFill>
          <a:blip r:embed="rId1"/>
          <a:stretch/>
        </p:blipFill>
        <p:spPr>
          <a:xfrm>
            <a:off x="3071880" y="142920"/>
            <a:ext cx="45511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нутреннее сопряж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71320" indent="-493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центра первой окружности провести дугу с радиусом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1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из второй – дугу с центром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до пересечения (центр сопряжени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320" indent="-493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отрезки, соединяющие центры данных дуг с новой (точки пересечения – точки сопряжени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320" indent="-493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дугу заданным радиусом из центра сопряжения до точек сопря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320" indent="-493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Содержимое 3" descr="14-5.jpg"/>
          <p:cNvPicPr/>
          <p:nvPr/>
        </p:nvPicPr>
        <p:blipFill>
          <a:blip r:embed="rId1"/>
          <a:stretch/>
        </p:blipFill>
        <p:spPr>
          <a:xfrm>
            <a:off x="1434960" y="1703520"/>
            <a:ext cx="74995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мешанное сопряжение касающихся окружносте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плавного перехода необходимо, чтобы точка сопряжения была на прямой, соединяющей центры окружност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Содержимое 3" descr="14-6.jpg"/>
          <p:cNvPicPr/>
          <p:nvPr/>
        </p:nvPicPr>
        <p:blipFill>
          <a:blip r:embed="rId1"/>
          <a:stretch/>
        </p:blipFill>
        <p:spPr>
          <a:xfrm>
            <a:off x="1911240" y="357120"/>
            <a:ext cx="573264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ОПРЯЖЕНИЕ ПРЯМОЙ И ДУГ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СНОВНЫЕ ПОНЯТ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сопряжения прямой и дуги необходимо, чтобы прямая была касательной к окруж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Содержимое 3" descr="14-7.jpg"/>
          <p:cNvPicPr/>
          <p:nvPr/>
        </p:nvPicPr>
        <p:blipFill>
          <a:blip r:embed="rId1"/>
          <a:stretch/>
        </p:blipFill>
        <p:spPr>
          <a:xfrm>
            <a:off x="2143080" y="247680"/>
            <a:ext cx="52866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1" name="Содержимое 3" descr="14-11.jpg"/>
          <p:cNvPicPr/>
          <p:nvPr/>
        </p:nvPicPr>
        <p:blipFill>
          <a:blip r:embed="rId1"/>
          <a:stretch/>
        </p:blipFill>
        <p:spPr>
          <a:xfrm>
            <a:off x="1774800" y="1886040"/>
            <a:ext cx="681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КАСАТЕЛЬНАЯ К ДВУМ ОКРУЖНОСТЯМ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нешняя касательн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Содержимое 3" descr="14-8.jpg"/>
          <p:cNvPicPr/>
          <p:nvPr/>
        </p:nvPicPr>
        <p:blipFill>
          <a:blip r:embed="rId1"/>
          <a:stretch/>
        </p:blipFill>
        <p:spPr>
          <a:xfrm>
            <a:off x="2643120" y="1785960"/>
            <a:ext cx="34005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нутренняя касательн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7" name="Содержимое 3" descr="14-9.jpg"/>
          <p:cNvPicPr/>
          <p:nvPr/>
        </p:nvPicPr>
        <p:blipFill>
          <a:blip r:embed="rId1"/>
          <a:stretch/>
        </p:blipFill>
        <p:spPr>
          <a:xfrm>
            <a:off x="3451320" y="2914560"/>
            <a:ext cx="34671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ЗАДАНИ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полните чертёж рычаг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1" name="Содержимое 3" descr="14-10.jpg"/>
          <p:cNvPicPr/>
          <p:nvPr/>
        </p:nvPicPr>
        <p:blipFill>
          <a:blip r:embed="rId1"/>
          <a:stretch/>
        </p:blipFill>
        <p:spPr>
          <a:xfrm>
            <a:off x="1434960" y="1741320"/>
            <a:ext cx="74995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полните чертёж подвес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3" name="Содержимое 3" descr="14-12.jpg"/>
          <p:cNvPicPr/>
          <p:nvPr/>
        </p:nvPicPr>
        <p:blipFill>
          <a:blip r:embed="rId1"/>
          <a:stretch/>
        </p:blipFill>
        <p:spPr>
          <a:xfrm>
            <a:off x="3200400" y="1447920"/>
            <a:ext cx="3968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Выполните чертёж крю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5" name="Содержимое 3" descr="14-13.jpg"/>
          <p:cNvPicPr/>
          <p:nvPr/>
        </p:nvPicPr>
        <p:blipFill>
          <a:blip r:embed="rId2"/>
          <a:stretch/>
        </p:blipFill>
        <p:spPr>
          <a:xfrm>
            <a:off x="2962440" y="1447920"/>
            <a:ext cx="444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сопря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пряжение – это плавный переход из одной линии в другу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построения сопряжений надо найт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Центры сопряжений -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тры из которых проводят дуг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очки сопряжений -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очки, в которых одна линия переходит в друг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Выполните чертёж детал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309680" y="1085760"/>
            <a:ext cx="65246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5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сопряж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пряжение прямых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ямой уго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упой уго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трый уго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араллельные прямы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пряжение двух дуг окружностей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нешне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нутренне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пряжение прямой и дуги окружност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Касательная к двум дугам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нешня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нутрення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ОПРЯЖЕНИЕ ПРЯМЫХ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пряжение прямого уг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тложить на сторонах от вершины угла точки, удалённые на расстояние, равное радиусу сопряжения (это точки сопряжения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троить дуги окружностей с центрами в полученных точках и заданным радиусом до пересечения (это центр сопряжения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троить дугу заданного радиуса из центра сопряжения до точек сопряж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14-1.jpg"/>
          <p:cNvPicPr/>
          <p:nvPr/>
        </p:nvPicPr>
        <p:blipFill>
          <a:blip r:embed="rId1"/>
          <a:stretch/>
        </p:blipFill>
        <p:spPr>
          <a:xfrm>
            <a:off x="3286080" y="214200"/>
            <a:ext cx="30006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щий способ построения сопряжений тупого и прямого угл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3200" indent="-504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а каждом луче отложить две пары точек, находящихся на одинаковом расстоянии от вершины угла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583200" indent="-504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Из каждой точки провести дугу, радиус которой равен радиусу дуги скругл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583200" indent="-504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овести две касательные к эти дугам (параллельно сторонам угла) до пересечения (это будет центр сопряжения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583200" indent="-504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т центра сопряжения построить перпендикуляры к сторонам угла (точки сопряжения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583200" indent="-504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Из центра сопряжения заданным радиусом провести дугу до точек сопряж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3" descr="14-2.jpg"/>
          <p:cNvPicPr/>
          <p:nvPr/>
        </p:nvPicPr>
        <p:blipFill>
          <a:blip r:embed="rId1"/>
          <a:stretch/>
        </p:blipFill>
        <p:spPr>
          <a:xfrm>
            <a:off x="3000240" y="214200"/>
            <a:ext cx="34290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01:27:28Z</dcterms:created>
  <dc:creator>Sergey A. Filimonov</dc:creator>
  <dc:description/>
  <dc:language>en-US</dc:language>
  <cp:lastModifiedBy>209</cp:lastModifiedBy>
  <dcterms:modified xsi:type="dcterms:W3CDTF">2009-12-04T12:57:02Z</dcterms:modified>
  <cp:revision>18</cp:revision>
  <dc:subject/>
  <dc:title>Слайд 1</dc:title>
</cp:coreProperties>
</file>