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13.png" ContentType="image/png"/>
  <Override PartName="/ppt/media/image6.jpeg" ContentType="image/jpeg"/>
  <Override PartName="/ppt/media/image10.png" ContentType="image/png"/>
  <Override PartName="/ppt/media/image5.jpeg" ContentType="image/jpeg"/>
  <Override PartName="/ppt/media/image8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22.jpeg" ContentType="image/jpeg"/>
  <Override PartName="/ppt/media/image1.jpeg" ContentType="image/jpeg"/>
  <Override PartName="/ppt/media/image2.png" ContentType="image/png"/>
  <Override PartName="/ppt/media/image9.jpeg" ContentType="image/jpeg"/>
  <Override PartName="/ppt/media/image17.jpeg" ContentType="image/jpeg"/>
  <Override PartName="/ppt/media/image3.png" ContentType="image/png"/>
  <Override PartName="/ppt/media/image4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67D0E-BA71-47B0-9964-262E07C4F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CCCF4-BAEA-473E-A4E2-64C06E765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7D596-7D1B-4C0C-A662-0B3C4D00A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C0BE4-732B-4ED1-90C6-A74533CEB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E64C8-2DA0-4290-A703-95162C8B9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95F23-B6C6-423A-8FD5-B39AC419D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8649F-B96D-4AC5-8E72-34B71487C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B4409-291C-4C5A-B041-4A1303F66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F0B58-6514-4A85-8015-A3153819B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73A46-4EF6-413D-9112-4755DCF96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3D01D-4662-4F5F-8656-74AEC13E5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AA469-FF1C-40B9-ADD0-90B3A7E40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BF123-54D9-4DE8-A40D-7751A59B9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8F519-ADDF-443A-8521-3D24ACD72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A438B-9662-4B61-88D1-E4910DF26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A09FB-D8AF-4D02-8B7E-85E7E1C3A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DA164-742B-4EDC-88B8-41F7B148D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E25AA9-3775-4F93-95BB-924336BED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3F6DFF-5525-4135-AB37-94AEE9FCE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10B7B0-6BFF-4B4A-AC57-CE430A7B6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58B3A3-0177-4538-9E13-D1E4B0639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6539F1-4706-4F7C-AD85-B39C0BFF7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5DA69-A9EE-4AA7-AF4D-E3F296C44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633328-CDF8-474D-8432-60A3B051F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1D58DA-3ADD-499A-BBE8-AA86C6763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B746BE-F119-46BB-99DE-ADF367697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3A2B9B-332B-42D7-B529-92738A118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975B73-DBDB-485F-AF32-1CB7762C9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D69112-0038-412E-BDB3-DBC5AA107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03F821-6984-4095-9EB6-F2E08B932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2FED44-77D9-4F81-9D4D-48AA49182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D3CFE2-E200-445D-901A-30553A582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BF04B3-3AF3-4CF9-BA85-0879EF0AB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2E2A7-7120-4A46-B4C8-7E07F58E4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C806FB-F951-4C01-A787-F3BDFB7B2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4A7BE1-B71F-41D7-ACD1-9A89EB77F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641266-EDE7-4589-9A44-D079A89F6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FBEAA7-EFA8-4442-9B8A-53138B7C9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C8B9C2-DE80-43D0-8337-F515F4DBB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EF7E67-252A-4310-9037-B02264862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9DCD66-AD67-4B77-89EF-9640DD030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50E564-539F-402E-90C0-E16EDE918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ED9605-FA23-42AF-9F70-1402EC3B4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D0FF89-2C88-45EF-B94E-FF52D998E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21A44-B809-44E4-A368-1ED20BB51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ACD602-5B4D-41B4-B67B-EAD9D0EC9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489AC4-5F44-4187-88A7-0B8C80431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875451-1397-40CB-AE2A-657DE1965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195D05-5235-48A4-8191-0F50555DD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CBAC26-0EC3-4005-926A-0587DC75C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BB0AAE-1208-4519-8C6A-5EFA7B918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14FE4E-8990-49CB-A5E9-53F2C42F6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BD813C-9305-458A-8189-38DF4A76D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5546A8-8B12-436A-A876-5D90AB53C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75499A-2192-430B-9B6B-D18FBEC9B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0547A-8651-48AC-B612-ADEAD703D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BFC161-9944-4A8B-B76F-5D1D030DB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68108E-C9A1-408B-981B-0FEA1BF1B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D00024-FB7E-44D3-86AE-7607D98E8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EAFFBD-227A-4FAD-9840-C09002BEF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834A60-BC5C-43D0-B8B3-5940D540E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72E781-AA3D-4504-B9E5-FCA99EBF2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5EB825-EB96-4D0F-9580-F64D95819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EB777B-F942-4EA4-98A5-D764DF400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16BEC3-AC8A-419F-AC30-870D2B3BB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167275-F536-4A1D-9C54-B1FBCB134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CE14F-2722-4422-81D7-BB06E8791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627EBA-D9D3-41ED-ABC8-76B8D4B11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17192E-5327-4648-A8E2-76E9159A2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32CCF6-456D-4FE0-BBF5-513870A01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708667-873B-4A0B-8E73-C9E1BB621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18F1B5-DFEB-4209-88EB-A4BEC500F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989969-88C5-474F-8BE5-0953A04C0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10CE64-F378-4513-9CB8-E24993DDC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18412B-9F6D-41C7-B85C-891C27357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6037E0-FBEF-44E3-93E0-D4E839BDD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D446C3-C9D6-473B-B9DB-75C3A3CDF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11C78-6540-4F03-B86E-8A0516E7C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576CCD-D922-4A69-BE4D-4D65426D5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703EF2-C3D4-4238-987C-0EA65CB8A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C073E9-AE51-4A19-9052-6DE0F284D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54CF36-6424-45FE-BB14-56DED495A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198FDD-CF94-41B1-A6C6-9A81D0F79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BB8A2-D22B-4A92-9BA4-AACD46137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5A9EE-0338-4E08-B91A-45048289E827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2E57D-44C4-4AEC-99F4-284C50ADF00E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0E437-E967-4462-8C09-D2DA59B1DAA6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17373-FE43-4FB7-BF42-F42D423C0A22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3E709-C1A3-434B-96E3-236BAEBF559B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AAEC0-390A-4096-A011-E635B7E4FB9E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3DC3E-E09A-41C5-85F1-5C19071D2A4D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Моделирование сложных объектов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431720" y="1848960"/>
            <a:ext cx="7407000" cy="17528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20e04"/>
                </a:solidFill>
                <a:latin typeface="Corbel"/>
              </a:rPr>
              <a:t>(С) Озеркова Ирина Александровна, 2009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Примеры деталей, требующих операции «Приклеить выдавливанием» 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36" name="Содержимое 3" descr="12-2.jpg"/>
          <p:cNvPicPr/>
          <p:nvPr/>
        </p:nvPicPr>
        <p:blipFill>
          <a:blip r:embed="rId1"/>
          <a:stretch/>
        </p:blipFill>
        <p:spPr>
          <a:xfrm>
            <a:off x="1214280" y="1857240"/>
            <a:ext cx="4610160" cy="3895920"/>
          </a:xfrm>
          <a:prstGeom prst="rect">
            <a:avLst/>
          </a:prstGeom>
          <a:ln w="0">
            <a:noFill/>
          </a:ln>
        </p:spPr>
      </p:pic>
      <p:pic>
        <p:nvPicPr>
          <p:cNvPr id="337" name="Рисунок 4" descr="12-3.jpg"/>
          <p:cNvPicPr/>
          <p:nvPr/>
        </p:nvPicPr>
        <p:blipFill>
          <a:blip r:embed="rId2"/>
          <a:stretch/>
        </p:blipFill>
        <p:spPr>
          <a:xfrm>
            <a:off x="6215040" y="1785960"/>
            <a:ext cx="235260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Arial"/>
              </a:rPr>
              <a:t>Пример построения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0" name="" descr=""/>
          <p:cNvPicPr/>
          <p:nvPr/>
        </p:nvPicPr>
        <p:blipFill>
          <a:blip r:embed="rId2"/>
          <a:stretch/>
        </p:blipFill>
        <p:spPr>
          <a:xfrm>
            <a:off x="2050920" y="1341360"/>
            <a:ext cx="2664000" cy="2189160"/>
          </a:xfrm>
          <a:prstGeom prst="rect">
            <a:avLst/>
          </a:prstGeom>
          <a:ln w="0">
            <a:noFill/>
          </a:ln>
        </p:spPr>
      </p:pic>
      <p:pic>
        <p:nvPicPr>
          <p:cNvPr id="341" name="" descr=""/>
          <p:cNvPicPr/>
          <p:nvPr/>
        </p:nvPicPr>
        <p:blipFill>
          <a:blip r:embed="rId3"/>
          <a:stretch/>
        </p:blipFill>
        <p:spPr>
          <a:xfrm>
            <a:off x="5219640" y="1341360"/>
            <a:ext cx="2664000" cy="2087640"/>
          </a:xfrm>
          <a:prstGeom prst="rect">
            <a:avLst/>
          </a:prstGeom>
          <a:ln w="0">
            <a:noFill/>
          </a:ln>
        </p:spPr>
      </p:pic>
      <p:pic>
        <p:nvPicPr>
          <p:cNvPr id="342" name="" descr=""/>
          <p:cNvPicPr/>
          <p:nvPr/>
        </p:nvPicPr>
        <p:blipFill>
          <a:blip r:embed="rId4"/>
          <a:stretch/>
        </p:blipFill>
        <p:spPr>
          <a:xfrm>
            <a:off x="1187280" y="3800520"/>
            <a:ext cx="2702160" cy="2270160"/>
          </a:xfrm>
          <a:prstGeom prst="rect">
            <a:avLst/>
          </a:prstGeom>
          <a:ln w="0">
            <a:noFill/>
          </a:ln>
        </p:spPr>
      </p:pic>
      <p:pic>
        <p:nvPicPr>
          <p:cNvPr id="343" name="" descr=""/>
          <p:cNvPicPr/>
          <p:nvPr/>
        </p:nvPicPr>
        <p:blipFill>
          <a:blip r:embed="rId5"/>
          <a:stretch/>
        </p:blipFill>
        <p:spPr>
          <a:xfrm>
            <a:off x="3995640" y="3789360"/>
            <a:ext cx="2487600" cy="2246400"/>
          </a:xfrm>
          <a:prstGeom prst="rect">
            <a:avLst/>
          </a:prstGeom>
          <a:ln w="0">
            <a:noFill/>
          </a:ln>
        </p:spPr>
      </p:pic>
      <p:pic>
        <p:nvPicPr>
          <p:cNvPr id="344" name="" descr=""/>
          <p:cNvPicPr/>
          <p:nvPr/>
        </p:nvPicPr>
        <p:blipFill>
          <a:blip r:embed="rId6"/>
          <a:stretch/>
        </p:blipFill>
        <p:spPr>
          <a:xfrm>
            <a:off x="6588000" y="3789360"/>
            <a:ext cx="2340000" cy="22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Построить 3</a:t>
            </a: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D</a:t>
            </a: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-модель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46" name="Содержимое 3" descr="12-4.jpg"/>
          <p:cNvPicPr/>
          <p:nvPr/>
        </p:nvPicPr>
        <p:blipFill>
          <a:blip r:embed="rId1"/>
          <a:stretch/>
        </p:blipFill>
        <p:spPr>
          <a:xfrm>
            <a:off x="1357200" y="1214280"/>
            <a:ext cx="4786560" cy="549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Сравните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48" name="Содержимое 3" descr="12-6.jpg"/>
          <p:cNvPicPr/>
          <p:nvPr/>
        </p:nvPicPr>
        <p:blipFill>
          <a:blip r:embed="rId1"/>
          <a:stretch/>
        </p:blipFill>
        <p:spPr>
          <a:xfrm>
            <a:off x="1500120" y="1571760"/>
            <a:ext cx="4000680" cy="48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2577960" y="260028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4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72314"/>
                </a:solidFill>
                <a:latin typeface="Corbel"/>
              </a:rPr>
              <a:t>ОПЕРАЦИЯ «ВЫРЕЗАТЬ ВЫДАВЛИВАНИЕМ»</a:t>
            </a: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2577960" y="1066680"/>
            <a:ext cx="640080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320e04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 txBox="1"/>
          <p:nvPr/>
        </p:nvSpPr>
        <p:spPr>
          <a:xfrm>
            <a:off x="1214280" y="3567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35520" indent="-259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С помощью выдавливания можно не только строить тела, но и делать отверстия в уже существующих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5520" indent="-259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Для этого также необходимо создать эскиз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5520" indent="-259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Операцию «Вырезать выдавливанием» можно использовать, только если уже создано тело и выделен один эскиз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5520" indent="-259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52" name="Рисунок 3" descr="12-9.jpg"/>
          <p:cNvPicPr/>
          <p:nvPr/>
        </p:nvPicPr>
        <p:blipFill>
          <a:blip r:embed="rId1"/>
          <a:stretch/>
        </p:blipFill>
        <p:spPr>
          <a:xfrm>
            <a:off x="8143920" y="0"/>
            <a:ext cx="1000080" cy="1111320"/>
          </a:xfrm>
          <a:prstGeom prst="rect">
            <a:avLst/>
          </a:prstGeom>
          <a:ln w="0">
            <a:noFill/>
          </a:ln>
        </p:spPr>
      </p:pic>
      <p:pic>
        <p:nvPicPr>
          <p:cNvPr id="353" name="Рисунок 4" descr="12-11.jpg"/>
          <p:cNvPicPr/>
          <p:nvPr/>
        </p:nvPicPr>
        <p:blipFill>
          <a:blip r:embed="rId2"/>
          <a:stretch/>
        </p:blipFill>
        <p:spPr>
          <a:xfrm>
            <a:off x="1357200" y="5072040"/>
            <a:ext cx="726120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Пример операции «Вырезать выдавливанием»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55" name="Содержимое 5" descr="12-7.jpg"/>
          <p:cNvPicPr/>
          <p:nvPr/>
        </p:nvPicPr>
        <p:blipFill>
          <a:blip r:embed="rId1"/>
          <a:stretch/>
        </p:blipFill>
        <p:spPr>
          <a:xfrm>
            <a:off x="1857240" y="1643040"/>
            <a:ext cx="1905120" cy="1952640"/>
          </a:xfrm>
          <a:prstGeom prst="rect">
            <a:avLst/>
          </a:prstGeom>
          <a:ln w="0">
            <a:noFill/>
          </a:ln>
        </p:spPr>
      </p:pic>
      <p:pic>
        <p:nvPicPr>
          <p:cNvPr id="356" name="Содержимое 6" descr="12-8.jpg"/>
          <p:cNvPicPr/>
          <p:nvPr/>
        </p:nvPicPr>
        <p:blipFill>
          <a:blip r:embed="rId2"/>
          <a:stretch/>
        </p:blipFill>
        <p:spPr>
          <a:xfrm>
            <a:off x="5357880" y="1643040"/>
            <a:ext cx="1904760" cy="1886040"/>
          </a:xfrm>
          <a:prstGeom prst="rect">
            <a:avLst/>
          </a:prstGeom>
          <a:ln w="0">
            <a:noFill/>
          </a:ln>
        </p:spPr>
      </p:pic>
      <p:pic>
        <p:nvPicPr>
          <p:cNvPr id="357" name="Рисунок 7" descr="12-10.jpg"/>
          <p:cNvPicPr/>
          <p:nvPr/>
        </p:nvPicPr>
        <p:blipFill>
          <a:blip r:embed="rId3"/>
          <a:stretch/>
        </p:blipFill>
        <p:spPr>
          <a:xfrm>
            <a:off x="1857240" y="4429080"/>
            <a:ext cx="1905120" cy="1505160"/>
          </a:xfrm>
          <a:prstGeom prst="rect">
            <a:avLst/>
          </a:prstGeom>
          <a:ln w="0">
            <a:noFill/>
          </a:ln>
        </p:spPr>
      </p:pic>
      <p:pic>
        <p:nvPicPr>
          <p:cNvPr id="358" name="Рисунок 8" descr="12-12.jpg"/>
          <p:cNvPicPr/>
          <p:nvPr/>
        </p:nvPicPr>
        <p:blipFill>
          <a:blip r:embed="rId4"/>
          <a:stretch/>
        </p:blipFill>
        <p:spPr>
          <a:xfrm>
            <a:off x="5357880" y="4357800"/>
            <a:ext cx="1904760" cy="157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Требования к эскизу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В эскизе может быть один или несколько контуров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Если контур один, то он может быть разомкнутым или замкнутым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Если контуров несколько, они должны быть либо все замкнуты, либо все разомкнуты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Допускается любой уровень вложенности контуров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Постройте деталь, используя необходимые операции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62" name="Содержимое 3" descr="12-13.jpg"/>
          <p:cNvPicPr/>
          <p:nvPr/>
        </p:nvPicPr>
        <p:blipFill>
          <a:blip r:embed="rId1"/>
          <a:stretch/>
        </p:blipFill>
        <p:spPr>
          <a:xfrm>
            <a:off x="2468520" y="1447920"/>
            <a:ext cx="54324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2577960" y="260028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4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72314"/>
                </a:solidFill>
                <a:latin typeface="Corbel"/>
              </a:rPr>
              <a:t>АНАЛИЗ ФОРМЫ</a:t>
            </a: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2577960" y="1066680"/>
            <a:ext cx="640080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320e04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68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Анализ произвольного сложного геометрического объекта показывает, что он представляет собой совокупность простых геометрических тел, составляющих его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Построение (моделирование) сложного объекта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– это соединение простых тел в единое целое, то есть в деталь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Построение сложного объекта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Прочитать чертёж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Мысленно разбить объект на простые тела, возможно, также мысленно удалив вырезы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Определить порядок построения тел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Построить элементы вращения и выдавливания с использованием эскизов на координатных плоскостях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Построить элементы с использованием в качестве дополнительных плоскостей грани уже построенных объектов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Построить  дополнительные плоскости для создания на них эскизов элементов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Выполнить вырезы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Построить фаски и скругления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Прочитать чертёж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26" name="Содержимое 3" descr="11-7.jpg"/>
          <p:cNvPicPr/>
          <p:nvPr/>
        </p:nvPicPr>
        <p:blipFill>
          <a:blip r:embed="rId1"/>
          <a:stretch/>
        </p:blipFill>
        <p:spPr>
          <a:xfrm>
            <a:off x="1703520" y="1214280"/>
            <a:ext cx="6338880" cy="479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285560" y="21384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Прочитать чертёж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28" name="Содержимое 3" descr="12-1.jpg"/>
          <p:cNvPicPr/>
          <p:nvPr/>
        </p:nvPicPr>
        <p:blipFill>
          <a:blip r:embed="rId1"/>
          <a:stretch/>
        </p:blipFill>
        <p:spPr>
          <a:xfrm>
            <a:off x="1357200" y="1071720"/>
            <a:ext cx="6869160" cy="522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Сравните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30" name="Содержимое 3" descr="12-5.jpg"/>
          <p:cNvPicPr/>
          <p:nvPr/>
        </p:nvPicPr>
        <p:blipFill>
          <a:blip r:embed="rId1"/>
          <a:stretch/>
        </p:blipFill>
        <p:spPr>
          <a:xfrm>
            <a:off x="2484360" y="1600200"/>
            <a:ext cx="540072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2577960" y="260028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4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72314"/>
                </a:solidFill>
                <a:latin typeface="Corbel"/>
              </a:rPr>
              <a:t>ОПЕРАЦИЯ «ПРИКЛЕИТЬ ВЫДАВЛИВАНИЕМ»</a:t>
            </a: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2577960" y="1066680"/>
            <a:ext cx="640080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320e04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9480" indent="-262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Элементы выдавливания можно использовать как для создания отдельного тела, так и для приклеивания элемента выдавливания к уже существующему телу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Обратите внимание, что если деталь состоит из нескольких отдельных тел, то создать их с помощью одного эскиза нельзя, надо создавать каждое тело в отдельности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4T14:28:12Z</dcterms:created>
  <dc:creator>Sergey A. Filimonov</dc:creator>
  <dc:description/>
  <dc:language>en-US</dc:language>
  <cp:lastModifiedBy>209</cp:lastModifiedBy>
  <dcterms:modified xsi:type="dcterms:W3CDTF">2009-11-25T07:01:10Z</dcterms:modified>
  <cp:revision>33</cp:revision>
  <dc:subject/>
  <dc:title>Операция  «Приклеить выдавливанием»</dc:title>
</cp:coreProperties>
</file>