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BA0-72A2-45B7-B937-82312CB9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436-C7D1-450F-819D-3770093A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C96-F82E-4C0B-82D8-B9981AFB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E17-4FDF-494A-9FAF-28E470AA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1186-4460-4996-966D-FFE958C1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D61A-2E94-4CC9-BC3B-35585122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1147-4DDE-498C-8336-1212FFD5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63D2-4CF0-4820-B1DD-CD7C180B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767E-C575-4ECC-81CB-62794F9C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7FE3-2C78-4C09-98EA-595476AF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3654-9C34-4AA0-BE3C-EA8DD522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637-FB19-451E-91D3-AE4AD232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CF03-4195-4D35-9A13-E609B576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C75A-91A1-4FD7-8A21-6CDD2E8C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54C5-DBB4-42AC-BBFD-65B5EB7C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9975-92B6-46F3-B72A-A6C7C4BE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7A7B-C473-4293-8AE2-0E2B329D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76A3E-DEAD-4271-8F91-FDAD0724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6506-8B93-4D66-AF4C-08370FCB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BD7A5-5077-4492-B2B0-FC1F1DD7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46E2B-4FAD-4D53-B846-DB86D151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E4565-FB6C-4CF7-9507-90F35A9F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D3F7-9097-49D3-85EE-C8CFBE77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3205E-3F4E-4AC8-9FE8-A6EDE212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6DED-2530-4C93-BE5A-A9BF5570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98DB-D8D9-4B91-889D-DC12642E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0B14-F237-40A4-AA24-03A32383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F6E76-98DE-4D74-BC32-268EEE91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6B199-77C5-4E4E-BC90-FBE086E7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14271-B0D5-4275-A9F9-739371CA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6FA9C-DE90-4502-B158-FC714B0B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83C5D-D289-4E0C-8BDC-5D9A6F38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856F3-E6A4-40E4-A79A-95250E39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E8E-18E0-490F-BA0A-8828E263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4ED02-A056-4676-9D28-17EE977C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F0DED-783E-4368-8EA2-F59B44F0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07FEE-0089-4F3E-9C4C-8008766A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70F45-3A47-4ACC-A320-4116C948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9AA27-0D0E-47C2-9E21-4F2549E8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2CADF-28A3-4E89-AF46-461CCF2E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9CC67-4708-4BFB-95A9-5B0CC983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CD931-88B3-4929-9BAB-1806671D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B3414-535C-4BAA-9326-DCC32331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FF32F-D860-4302-A8C6-13A68DA0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D79-DA94-4569-B70C-CF5B62C0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7B134-C4BC-4B4B-92E6-E51DAA5F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497B3-8EDA-416C-9E4D-7EA522A6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AFD34-E6AB-4A49-83E6-5F61679E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1172E-4F77-4D4D-A3D3-9B3161A0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183EB-4EDF-44BF-A7F1-1883B745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236E5-284B-4947-A48C-40915070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02476-F428-4C5C-9377-78E02420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3BE37-8696-4101-842A-9F9FAADB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8A6D8-1C0B-41D3-AA70-B7AA56E4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F0DD3-1B08-4E29-A13A-8D7A164C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525-9CCB-428F-9660-51CD7CAB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7D452-9EC8-4E5A-87CF-3A54B77F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4422D-6B87-4A37-8FA3-A1730CED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B3BA8-EC4F-41F0-A24C-F28A5F27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237FD-4118-4967-850A-92B167B3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6B430-5801-4227-B8A9-0D362A44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40824-6FFD-4FE0-853D-1A1BBABC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26915-E845-4294-BB65-3FF1813B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87AFA-CF4D-4328-8395-C0637B57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D5529-16C0-4DA6-8A03-0C55E2B6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D84EA-CAAC-402D-84EB-80F4A61F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FB0-4A4A-41BF-B301-31029311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178AA-6F4F-4D25-8DDB-E99BD63B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57813-DF53-42B2-A63F-476533A2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2F798-4F01-4B1B-9EAC-BECC6F8E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22C1A-0471-4894-A94B-830FF7B0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BE4D8-B63F-400B-87B6-FB2EE509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1D321-84F2-4572-B2AE-0E14E62B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CA900-1964-48D0-97B5-42B4B272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9BD58-F870-4672-A82C-C966D39C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5EA9A-61E4-4F30-9CD4-72C8E459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383C9-9CA6-46CE-82B6-EC7D8057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0D6-6D33-4441-995A-3F05564B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B8362-DE67-4584-8A41-65B1F34B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122F1-C962-4BE2-BCD3-8420867E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8DC32-8426-4975-9008-2B47689E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E1A76-11E9-4EC1-B1C7-F10E3CA3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5CE20-DE22-4849-ACE1-E3626576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9F5-1800-4A90-9255-45E74C21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852F-D51A-44DA-AE47-E4055AEEA97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7209-13EB-4970-BA5A-7F4708E3018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D6DB-7668-49CC-B2C3-755149B3FAF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D193-EF82-4AD1-B13C-F8D6FC377A9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2A9A-4C34-4EDC-A22D-5431DEBB838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8C6F-74B0-4DD4-A460-D5AB208B620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B633-D3EA-4A3D-B5C6-BE501548532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екции вершин, рёбер и граней предме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(С)Озеркова Ирина Александровна, 200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полнить по учебнику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. 12  номера 21-2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зображение предме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ображение вершин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ображение рёбе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ображение гране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ображение кривых поверхносте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зображение верши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ршина переводится в точк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ли две вершины находятся на одном луче, перпендикулярном плоскости проекций, то он проецируются в одну точк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екции вершин ограничивают проекции рёбе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зображение рёбе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Если ребро параллельно плоскости проецирования, то оно проецируется без искажений (отрезком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Если ребро перпендикулярно плоскости проецирования, то оно проецируется в точку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Если ребро наклонно к плоскости проецирования, то она проецируется в отрезок с искажением (имеет меньшую длину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роекции рёбер ограничивают проекции гране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зображение гране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ли грань параллельна плоскости проецирования, то она изображается без искаж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ли грань перпендикулярна плоскости проецирования, то она изображается отрезк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ли грань наклонна к плоскости проецирования, то она изображается с искажение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ображение для главного вида всегда выбирается так, чтобы как можно больше граней проецировались без искаже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делать чертёж и отметить проекции точек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13-1.jpg"/>
          <p:cNvPicPr/>
          <p:nvPr/>
        </p:nvPicPr>
        <p:blipFill>
          <a:blip r:embed="rId1"/>
          <a:stretch/>
        </p:blipFill>
        <p:spPr>
          <a:xfrm>
            <a:off x="2817720" y="2028960"/>
            <a:ext cx="47340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 наглядному изображению найдите главный вид и вид сверху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Рисунок 3" descr="13-2.jpg"/>
          <p:cNvPicPr/>
          <p:nvPr/>
        </p:nvPicPr>
        <p:blipFill>
          <a:blip r:embed="rId1"/>
          <a:stretch/>
        </p:blipFill>
        <p:spPr>
          <a:xfrm>
            <a:off x="1341360" y="2428920"/>
            <a:ext cx="78026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Содержимое 3" descr="13-3.jpg"/>
          <p:cNvPicPr/>
          <p:nvPr/>
        </p:nvPicPr>
        <p:blipFill>
          <a:blip r:embed="rId1"/>
          <a:stretch/>
        </p:blipFill>
        <p:spPr>
          <a:xfrm>
            <a:off x="2500200" y="284040"/>
            <a:ext cx="4857840" cy="64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02:09:02Z</dcterms:created>
  <dc:creator>Sergey A. Filimonov</dc:creator>
  <dc:description/>
  <dc:language>en-US</dc:language>
  <cp:lastModifiedBy>Sergey A. Filimonov</cp:lastModifiedBy>
  <dcterms:modified xsi:type="dcterms:W3CDTF">2009-11-07T02:53:28Z</dcterms:modified>
  <cp:revision>5</cp:revision>
  <dc:subject/>
  <dc:title>Проекции вершин, рёбер и граней предмета</dc:title>
</cp:coreProperties>
</file>