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254-F73B-409D-A9B7-1AFFB6444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31E-E07C-45EB-A7BB-017529C0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E727-3A6C-4DD7-9D8F-4D513210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FA9-7FBA-4C80-A65C-CEDC66F0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6A0D4-17EE-4BA2-AEAB-88AE38DE9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2FC6-4595-4414-9243-10813FB8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A5F5-0486-48F9-B840-BC296FE6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3F8E-902A-4ECF-9649-67376744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4BD7-0940-4B6F-A8A1-FC0392A0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C103-FE50-4864-A631-8CA4C5C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3097-C305-4A57-855A-0DAA33DD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10C6-ACBF-4D79-A4DC-15672DFF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F5D0-A7BB-43A7-BC1D-E6E3C5ED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F3170-E090-44D8-A0E8-97DC38BB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10E8-E635-45E2-8804-2613C3A1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4745-8A07-4C93-A98A-96052A7D6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D22-9F40-411E-B8AD-2E676DC13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A0871-CB57-4228-8B76-79EAD77DF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304E0-CC80-4739-8971-021F8D5D1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D0709-7DB0-4894-8943-CEC01D74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EC254-E44F-43CA-9252-1D5FA2FC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2E297-7128-4D6B-A803-5E70F627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564-A748-4F18-A990-23B1C5CE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4248-A0BE-4A7E-A242-2B432B03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CEBB9-99D6-4F89-B2FB-B97ADA5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1996C-101C-4EC7-B200-DAADFB97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5624-8F09-4405-8198-4E80161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DDAF-5394-4647-B50B-70175FCA7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A1EC6-6DC1-44B4-BC52-7482734B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2D3A1-4BA5-4DE7-9579-055AACDB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7D428-E3C5-4FCC-ABE2-045D47B77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EB544-3C04-4288-89D5-4BFF50A4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E860-D40D-4644-9411-7FDAFE95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581-5A14-40B3-A192-994A87D7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DD887-D3EF-4D83-AEF2-4C73D4DC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8E606-5AC6-4D7C-A2B2-6BD51026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DAB15-D359-4468-A7D0-4B973D9A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7F91A-C24D-4C5B-BEC3-1FAF23E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C3343-E7D9-4878-AAB1-99205AD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A23E9-825F-4772-BE9F-3B61A71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B291F-E37D-4ECD-BD22-0088A76C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885CC-780B-442B-8F3A-0D4AFBCF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8B493-0199-46ED-9DC6-0A345754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8EC16-7966-4E7C-BF6A-52576848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67AE-D626-44A6-9DD5-470921F18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3A48-9A89-4F35-A04B-357333F6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3A326-E1DC-418E-9D1B-D6C6B6CB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A0A96-399C-470B-8B20-AE1D2D78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7D2F-200E-4D49-8CEA-A3D0C941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11B5A-643D-493B-844B-701129EE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3913E-29E3-443D-A1A1-A0A7DA12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C1506-8CF2-459B-BAAB-B7E7F0DF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E95BE-6B19-48F6-9896-3D777723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E2094-9697-4A62-AA30-ADE55D9C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8B5E0-BCEB-4BFB-AA20-3242599D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6D80-A4E6-42A7-8346-2F977A04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12679-FD4D-4FD2-BA8A-B47AB79B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B34A8-07CA-465E-B403-EFD38C552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BB6CA-6B32-43D2-9AB8-E00C88B8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A92E9-12C3-4FA6-8563-095D85BB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F6AE-FD2A-4C21-A1AC-E5B7789BC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6E067-9EF5-411D-A43F-512B364B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DDBED-B318-4004-A6C8-40B406BD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E31FE-2072-48F6-A28E-8CFB1E65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75A82-B905-4F06-82C0-9734FD88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A0713-BF20-455A-AA99-0E79F6E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BBE7-47BC-4BDD-B428-964A887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BE5C5-B112-4FAE-89C6-691DD1C1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D2115-1406-487C-8F0E-447A63096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155F6-C795-46A4-9F0E-23FDBE5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3642A-55D9-43D1-A78B-F9636AF6E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0CB24-8582-4E2D-B8BA-555867E6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DA915-3AC6-444D-89EE-3FE78EE5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2AE82-B24E-4C75-B54D-B25B628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EB764-02CD-46B1-A599-41222121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672F-A725-4D87-A5E1-7D8ECC3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7BDEC-9876-4180-9404-268D6B60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271-3F52-4B8B-858B-CBE1FD3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D33BD-433A-4E3C-B86B-94930E2B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45DE-AE74-471F-8E0E-F7F3293A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642C2-3DC2-4C0F-8A66-E17B3B289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642B6-35B8-4761-88BC-A4091FB3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0C267-04EB-4ADA-B64B-9D1D8734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EAF-98E3-4D0D-84A5-A80BB4F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A77A-6BCD-4F1D-8C69-33A1CAF05CD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2E692-38E9-4671-8172-EF194CD847B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98F3-1816-485B-A2D5-D4DEFD52F06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B1E1-A819-42CD-8856-6FB5A91237D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6667-66F5-47A5-9EDC-586BFBA6E9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F97-956E-455F-8050-2D59BFD47E3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F52D-FDC2-4058-9369-1747F5C433D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екции геометрических те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ОЕКЦИЯ ГРУППЫ ТЕ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ядок анали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колько тел изображено на чертеж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это тел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тела касаютс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ля каждого тела назовите его местополож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Чертёж группы те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9" name="Содержимое 3" descr="11-5.jpg"/>
          <p:cNvPicPr/>
          <p:nvPr/>
        </p:nvPicPr>
        <p:blipFill>
          <a:blip r:embed="rId1"/>
          <a:stretch/>
        </p:blipFill>
        <p:spPr>
          <a:xfrm>
            <a:off x="1357200" y="1143000"/>
            <a:ext cx="6685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читать чертё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3" descr="11-6.jpg"/>
          <p:cNvPicPr/>
          <p:nvPr/>
        </p:nvPicPr>
        <p:blipFill>
          <a:blip r:embed="rId1"/>
          <a:stretch/>
        </p:blipFill>
        <p:spPr>
          <a:xfrm>
            <a:off x="1440000" y="1214280"/>
            <a:ext cx="66024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очитать чертёж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Содержимое 3" descr="11-7.jpg"/>
          <p:cNvPicPr/>
          <p:nvPr/>
        </p:nvPicPr>
        <p:blipFill>
          <a:blip r:embed="rId1"/>
          <a:stretch/>
        </p:blipFill>
        <p:spPr>
          <a:xfrm>
            <a:off x="1703520" y="1214280"/>
            <a:ext cx="633888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ить чертёж по наглядному изображению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Содержимое 3" descr="11-8.jpg"/>
          <p:cNvPicPr/>
          <p:nvPr/>
        </p:nvPicPr>
        <p:blipFill>
          <a:blip r:embed="rId1"/>
          <a:stretch/>
        </p:blipFill>
        <p:spPr>
          <a:xfrm>
            <a:off x="2817720" y="2028960"/>
            <a:ext cx="47340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Домашнее задание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йте аксонометрические проекции следующей дета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8" name="Рисунок 4" descr="10-27.jpg"/>
          <p:cNvPicPr/>
          <p:nvPr/>
        </p:nvPicPr>
        <p:blipFill>
          <a:blip r:embed="rId1"/>
          <a:stretch/>
        </p:blipFill>
        <p:spPr>
          <a:xfrm>
            <a:off x="1500120" y="2428920"/>
            <a:ext cx="650088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РОЕКЦИИ ГЕОМЕТРИЧЕСКИХ ТЕЛ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Содержимое 5" descr="11-1.jpg"/>
          <p:cNvPicPr/>
          <p:nvPr/>
        </p:nvPicPr>
        <p:blipFill>
          <a:blip r:embed="rId1"/>
          <a:stretch/>
        </p:blipFill>
        <p:spPr>
          <a:xfrm>
            <a:off x="2643120" y="138240"/>
            <a:ext cx="450072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Содержимое 4" descr="11-2.jpg"/>
          <p:cNvPicPr/>
          <p:nvPr/>
        </p:nvPicPr>
        <p:blipFill>
          <a:blip r:embed="rId1"/>
          <a:stretch/>
        </p:blipFill>
        <p:spPr>
          <a:xfrm>
            <a:off x="2714760" y="189000"/>
            <a:ext cx="442908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полните таблиц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285920" y="1214280"/>
          <a:ext cx="7499160" cy="4718160"/>
        </p:xfrm>
        <a:graphic>
          <a:graphicData uri="http://schemas.openxmlformats.org/drawingml/2006/table">
            <a:tbl>
              <a:tblPr/>
              <a:tblGrid>
                <a:gridCol w="3749760"/>
                <a:gridCol w="3749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Чертежи в системе трёх проек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Достаточное количество изображе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8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рёхгранная пирам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223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тырёхгранная пирам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АНАЛИЗ ГЕОМЕТРИЧЕСКОЙ ФОРМЫ ПРЕДМЕТ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нализ геометрической формы предмета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то мысленное расчленение предмета на составляющие его геометрические тел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особ проведения анали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1" name="Содержимое 3" descr="11-3.jpg"/>
          <p:cNvPicPr/>
          <p:nvPr/>
        </p:nvPicPr>
        <p:blipFill>
          <a:blip r:embed="rId1"/>
          <a:stretch/>
        </p:blipFill>
        <p:spPr>
          <a:xfrm>
            <a:off x="1285920" y="1428840"/>
            <a:ext cx="7593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е анали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Содержимое 3" descr="11-4.jpg"/>
          <p:cNvPicPr/>
          <p:nvPr/>
        </p:nvPicPr>
        <p:blipFill>
          <a:blip r:embed="rId1"/>
          <a:stretch/>
        </p:blipFill>
        <p:spPr>
          <a:xfrm>
            <a:off x="1285920" y="1285920"/>
            <a:ext cx="76438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30T22:08:11Z</dcterms:created>
  <dc:creator>Sergey A. Filimonov</dc:creator>
  <dc:description/>
  <dc:language>en-US</dc:language>
  <cp:lastModifiedBy>Sergey A. Filimonov</cp:lastModifiedBy>
  <dcterms:modified xsi:type="dcterms:W3CDTF">2009-10-30T23:25:56Z</dcterms:modified>
  <cp:revision>9</cp:revision>
  <dc:subject/>
  <dc:title>Проекции геометрических тел</dc:title>
</cp:coreProperties>
</file>