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11.wmf" ContentType="image/x-wmf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18A-7B44-4869-B0FB-E571D143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FB5-CBDC-4D4B-94BD-1FD28FD5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8FC-ABCF-4647-9542-440BFFD1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984-BF19-4351-A543-940A149D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0E0-CB78-4EF9-BC12-C0B03E7B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CB4E-1767-4AE8-AD6A-8279EB1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A89-DC71-45E4-8BC2-CFF36BC0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ED89-9FFE-43BD-8B48-A70FCE67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B4B7-3AC9-47D0-9871-0483B25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3F27-4ED9-4BEC-99A0-E4A0223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CF6-8967-4EA3-A989-270F49C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7E9-54E2-4D9B-85D2-8D6251C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12C3-2AAA-4149-BE84-E3B8E59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C38F-FB45-420A-93DF-CB29CCB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A1E4-19A0-4547-9270-F42E82A1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C23-6F31-47C5-8DE3-F8FFA58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1FF-DBDE-4564-842E-9666AF93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D70C-86E1-490E-9EC4-A9CBBB07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8240-830D-44F5-8DA4-AD5FA37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3A63-4412-4C43-BC5F-A88F233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0AEE-70B6-421C-BBED-E85E794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1220-565C-4F12-820D-526ADAA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C1B-1503-49BE-B3AF-5CE6477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A104-E15D-4485-8B0C-A6F46A0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378F-E2B7-4E80-B5BC-61ECF954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CFF8-E685-41C3-A8F0-41F7218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1498-16E0-49AB-8B3A-E69BA5D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DF07-27B2-4584-9693-83894494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701B-BFA6-4D9A-9224-BD991CEA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8422-E339-4D3D-AE2B-01802DD6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3C62-B61C-4540-8E54-FA36FB62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CF95-2A44-4B6C-8816-5FEAC760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05EF-7056-44A5-B954-5A3BDDF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E3F-E466-4CCB-BBE3-F8C6F00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2EA4-C6D8-4DB5-8864-2E6AC33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601B-521A-4ADD-BC10-B62E998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928B-F117-405A-81D4-B8E11DF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32D9-6DD1-4E8E-8078-580BC5F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FA4E-B628-4F4C-B2B2-A04AA1C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E9CE-99B6-4F82-A1DA-71F53BB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3D84-7BD0-4557-942D-CA2D6481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66610-B07F-4621-9F3C-1FB3BC53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9413-4AC9-4C6F-BF7B-1B674B97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9726-14BF-47AB-9553-DE20DA27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FB4-D078-4D68-831E-AD304FB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FCD8-5386-4F21-B09E-1BAB3F0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96CC-E0EA-4E83-B9D8-CB5534AE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8C98D-C594-40CC-B0B9-F35315C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8A735-95F2-4E49-A5B5-ED7A01B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2508-0A41-4517-B29D-10AA9FC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1753-7544-45E0-B520-0571E2B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A833-4531-4A28-AB88-5E036202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E2C8-3ADC-4363-82B9-DDB9CA8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3169-511C-4360-95F0-BEC827E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B58C-11CA-4D48-A0D4-D2DA9B92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433-66B7-4707-A2C8-8468461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30FB-0195-4981-8F27-C2333A01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E15A-DC21-415B-87FC-A54DCEF5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4024-1C9A-48B3-AAC4-D990D6D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1544-5968-4C96-AEDC-FE062EF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BA1A-E2D4-4B0C-A167-0893FD15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8E37-E765-4273-8AFB-01A6030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66994-F0F6-4B3F-9115-FF5A61D1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7FED-B555-4A93-BF3C-064B470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3B02-B3F3-4057-8ED5-7872A0F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27CE9-8FA1-4EDD-AC7F-79924A55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4DE-6D94-4957-9994-E99D77A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72D9-FAE3-41B5-8F5B-111AD27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ED2A-AE44-493A-BBD7-67AAB58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13BFC-0A24-4455-BC05-DBEBED94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A0E8-50D6-41AE-B05F-29E98A9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C81D-523E-4DC9-9119-2DFDD06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CBB1-DBFA-4781-89C6-018D554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6FA2-7DF0-4AF9-A461-A51B78B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4D3D-EF81-4A44-993C-6EAD15C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272B-5CBF-4E6F-8A68-F205BB6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47A9-DA40-401B-8A23-2AEF3AC7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867-7396-4176-812E-847DE01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CFB93-27D0-4F11-A9C9-A843111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59C0-4D1C-4259-B504-6F7BCFF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A7AE-4836-47A5-A96C-105E82A4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503AD-26B8-4F22-9E9B-4F380ADA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A079-9822-41D4-AE4B-F04D18F1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F45-768B-440D-92E6-51EBAE12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4B3-5BDC-40AA-B621-6219308B2C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F20-C93C-4B83-859E-FE12262A86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A7D-51E8-4A2B-8B6C-1EDC752239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F42-0264-4B86-B195-D1CCAB8BE3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5D8-CC0C-44DE-AE37-ED80632BF6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4FEB-F70E-4F32-A6C1-10B81504B9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24D-6341-40A6-A807-666833B233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комство с программой «КОМПАС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Черчение 8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крытие докумен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1-2.jpg"/>
          <p:cNvPicPr/>
          <p:nvPr/>
        </p:nvPicPr>
        <p:blipFill>
          <a:blip r:embed="rId1"/>
          <a:stretch/>
        </p:blipFill>
        <p:spPr>
          <a:xfrm>
            <a:off x="1571760" y="1500120"/>
            <a:ext cx="6399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ипы фай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.cdw –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чертеж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.frw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– фрагмент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.m3d</a:t>
            </a:r>
            <a:r>
              <a:rPr b="0" lang="de-DE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– детал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акже есть соответствующие шаблоны (заготовки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Есть возможность импорта файлов из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utocad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 профессиональной (не учебной) версии есть файлы сборок, текстов, спецификац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фейс программы при работе с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D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 графико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5" descr="1-3.jpg"/>
          <p:cNvPicPr/>
          <p:nvPr/>
        </p:nvPicPr>
        <p:blipFill>
          <a:blip r:embed="rId1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фейс программы при работе с 3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графико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1-5.jpg"/>
          <p:cNvPicPr/>
          <p:nvPr/>
        </p:nvPicPr>
        <p:blipFill>
          <a:blip r:embed="rId1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ИМЕРЫ РАБОТ ПО МОДЕЛИРОВАНИЮ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ут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Содержимое 3"/>
          <p:cNvGraphicFramePr/>
          <p:nvPr/>
        </p:nvGraphicFramePr>
        <p:xfrm>
          <a:off x="2143080" y="1360440"/>
          <a:ext cx="328608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360440"/>
                    <a:ext cx="328608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ан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Содержимое 3"/>
          <p:cNvGraphicFramePr/>
          <p:nvPr/>
        </p:nvGraphicFramePr>
        <p:xfrm>
          <a:off x="2705040" y="1447920"/>
          <a:ext cx="49593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1447920"/>
                    <a:ext cx="4959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ветовой меч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3" name="Содержимое 3"/>
          <p:cNvGraphicFramePr/>
          <p:nvPr/>
        </p:nvGraphicFramePr>
        <p:xfrm>
          <a:off x="1434960" y="3174840"/>
          <a:ext cx="749952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3174840"/>
                    <a:ext cx="7499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усочек сы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6" name="Содержимое 3"/>
          <p:cNvGraphicFramePr/>
          <p:nvPr/>
        </p:nvGraphicFramePr>
        <p:xfrm>
          <a:off x="3252960" y="1447920"/>
          <a:ext cx="3863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1447920"/>
                    <a:ext cx="3863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абуре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9" name="Содержимое 3"/>
          <p:cNvGraphicFramePr/>
          <p:nvPr/>
        </p:nvGraphicFramePr>
        <p:xfrm>
          <a:off x="3621240" y="2206800"/>
          <a:ext cx="312732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1240" y="2206800"/>
                    <a:ext cx="312732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ИСТЕМЫ САПР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рузов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Содержимое 3"/>
          <p:cNvGraphicFramePr/>
          <p:nvPr/>
        </p:nvGraphicFramePr>
        <p:xfrm>
          <a:off x="3571920" y="1071720"/>
          <a:ext cx="33004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1071720"/>
                    <a:ext cx="3300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а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5" name="Содержимое 3"/>
          <p:cNvGraphicFramePr/>
          <p:nvPr/>
        </p:nvGraphicFramePr>
        <p:xfrm>
          <a:off x="3776760" y="2716200"/>
          <a:ext cx="281628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6760" y="2716200"/>
                    <a:ext cx="281628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такое САПР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АП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система автоматического проектирования. Это сокращение происходит от английского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AD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CAD </a:t>
            </a:r>
            <a:r>
              <a:rPr b="0" i="1" lang="de-DE" sz="3200" spc="-1" strike="noStrike">
                <a:solidFill>
                  <a:srgbClr val="000000"/>
                </a:solidFill>
                <a:latin typeface="Corbel"/>
              </a:rPr>
              <a:t>(Computer Aided Drawing)</a:t>
            </a: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исование с помощью компьютер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CAD </a:t>
            </a:r>
            <a:r>
              <a:rPr b="0" i="1" lang="de-DE" sz="3200" spc="-1" strike="noStrike">
                <a:solidFill>
                  <a:srgbClr val="000000"/>
                </a:solidFill>
                <a:latin typeface="Corbel"/>
              </a:rPr>
              <a:t>(Computer Aided Drafting) </a:t>
            </a: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чение с помощью компьютер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CAD </a:t>
            </a:r>
            <a:r>
              <a:rPr b="0" i="1" lang="de-DE" sz="3200" spc="-1" strike="noStrike">
                <a:solidFill>
                  <a:srgbClr val="000000"/>
                </a:solidFill>
                <a:latin typeface="Corbel"/>
              </a:rPr>
              <a:t>(Computer Aided Design)</a:t>
            </a:r>
            <a:r>
              <a:rPr b="0" lang="de-DE" sz="3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ектирование с помощью компьюте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 и 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ая задача таких программ – подготовка и выпуск чертёжно-конструкторской документации в соответствии со стандарт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Компас» – отечественная разработка, полностью поддерживающая государственные стандарты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Единой системы конструкторской документаци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ЕСКД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ругие системы САП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utoc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c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chic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id Wor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Dd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id Ed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-FLEX C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wer Solu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емейство программ «Компас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990 году был выпущен первый продукт “АСКОН” - чертёжно-графический редактор "КОМПАС 3.0", а также набор прикладных библиотек типовых элементов для разработки различных схем, сборочных чертежей и т. д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993 г. разработан технический проект на систему нового поколения КОМПАС 5  для Windows. В сентябре 1996 выпущена опытная версия КОМПАС 5.0. А с 1997 г. по 2001 г. семейство продуктов КОМПАС 5 (версии 5.1 — 5.11) получает дальнейшее развит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2002г. готовится к выпуску КОМПАС V6 — платформа для построения крупных интегрированных информационных комплексов. К апрелю 2003г. выпущено новое семейство программных продуктов КОМПАС V6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 февраля 2001г. компания начинает выпуск бесплатной учебной системы КОМПАС-3D LT для школ, гимназий, техникумов и других учреждений образова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стоящее время выпущена версия КОМПАС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V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ИНТЕРФЕЙС ПРОГРАМ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Экран программы без открытого докумен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5" descr="1-1.jpg"/>
          <p:cNvPicPr/>
          <p:nvPr/>
        </p:nvPicPr>
        <p:blipFill>
          <a:blip r:embed="rId1"/>
          <a:stretch/>
        </p:blipFill>
        <p:spPr>
          <a:xfrm>
            <a:off x="1500120" y="1571760"/>
            <a:ext cx="64706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равочная систе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5" descr="1-4.jpg"/>
          <p:cNvPicPr/>
          <p:nvPr/>
        </p:nvPicPr>
        <p:blipFill>
          <a:blip r:embed="rId1"/>
          <a:stretch/>
        </p:blipFill>
        <p:spPr>
          <a:xfrm>
            <a:off x="2050920" y="1614600"/>
            <a:ext cx="6267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8:22:37Z</dcterms:created>
  <dc:creator>Sergey A. Filimonov</dc:creator>
  <dc:description/>
  <dc:language>en-US</dc:language>
  <cp:lastModifiedBy>Sergey A. Filimonov</cp:lastModifiedBy>
  <dcterms:modified xsi:type="dcterms:W3CDTF">2009-09-01T20:22:50Z</dcterms:modified>
  <cp:revision>19</cp:revision>
  <dc:subject/>
  <dc:title>Основные возможности программы КОМПАС</dc:title>
</cp:coreProperties>
</file>