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10B-E106-47BC-B312-24DAF601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171-7947-4F19-B0AD-E403273B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99E-BA3F-4FBF-BDD7-CA7A7147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237-8E6A-41B9-80F8-7DB5AD4E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F9E7-F918-4AEC-BF0B-A67F5422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1BEA-09F0-4303-BB02-387215B0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EDC9-F67A-4AAC-87E2-55D0CF03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6A1C-645B-475E-B70B-4C8BEDFD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FA50-E5B4-4DAE-A878-6AB9ED34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DAE1-1505-4BC3-8663-FA1E9A49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9FEA-6BC5-4246-9B48-FD35B5CC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92D2-A068-492A-9031-C4E616E8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573E-BBE1-4C72-9756-BB1B4C84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AF64-ABE2-41E3-9D79-E6577C77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90A1-3FBF-48A4-8AD5-FE2912A3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07D1-F7DE-4099-8FA0-7A395F59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74B4-2449-4F6F-A8F3-90D3AD92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34E-3348-4123-8852-987F8CF8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D2C-C12F-4B75-AF16-8B37D009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0C5-CCE8-4403-BFE3-A19C8BA4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3FD-109C-4451-9D1D-FAF6BBC1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DA7-5F2F-43A0-9747-26AC432C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404-526D-4C40-ADC2-806B222D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392-2A9C-4D06-9100-B0606CA9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d2d5d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7c849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AC49-6112-417F-BEA7-D85ABC9C5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7c8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7c8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7c8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58D1-446C-4781-B35E-9238EE44D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c849e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d0505"/>
                </a:solidFill>
                <a:latin typeface="Arial Black"/>
              </a:rPr>
              <a:t>Задачи на исполнители</a:t>
            </a:r>
            <a:endParaRPr b="0" i="1" lang="en-US" sz="41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зеркова Ирина Александровна, 201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Исполнитель Геометрия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ет систему коман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362320"/>
          <a:ext cx="8229600" cy="2438280"/>
        </p:xfrm>
        <a:graphic>
          <a:graphicData uri="http://schemas.openxmlformats.org/drawingml/2006/table">
            <a:tbl>
              <a:tblPr/>
              <a:tblGrid>
                <a:gridCol w="2819520"/>
                <a:gridCol w="54100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 исполн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тор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итель перемещается из точки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,y)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чку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+a,y+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ить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[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итель выполняет команду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57200" y="5029200"/>
            <a:ext cx="8229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итель находится в начале координат. На каком расстоянии от него он окажется в результате выполнения следующего алгорит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тор(3,5) Вектор (2,-3) Повторить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тор(-2.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тор (-3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Исполнитель Краска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ет систему коман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г – перемещение на клетку вперёд с её одновременным окрашиванием: чёрный цвет меняется на белый, а белый – на чё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орот – поворот на 90 градусов против часовой стр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итель находится на бескрайнем белом клетчатом п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клеток будет окрашено в чёрный цвет после выполнения следующего алгорит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Исполнитель Краска (продолжение)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ец процед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Исполнитель Черепашка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щается на экране компьютера, оставляя след в виде линии. Его система коман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е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е число, вызывающее перемещение Черепашки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гов в направлении дви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целое число, вызывающая изменение направления движения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радусов по часовой стре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ь Повто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а 1 Команда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значает, что последовательность команд в скобках повторяетс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Исполнитель Черепашка (продолжение)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пашке был дан алгорит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499"/>
              </a:spcBef>
              <a:buClr>
                <a:srgbClr val="5f5f5f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о 60 Вперед 20 Направо 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499"/>
              </a:spcBef>
              <a:buClr>
                <a:srgbClr val="5f5f5f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и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ед 10 Направо 1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499"/>
              </a:spcBef>
              <a:buClr>
                <a:srgbClr val="5f5f5f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и 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о 45 Вперед 20 Направо 4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499"/>
              </a:spcBef>
              <a:buClr>
                <a:srgbClr val="5f5f5f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и 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ед 5 Направо 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499"/>
              </a:spcBef>
              <a:buClr>
                <a:srgbClr val="5f5f5f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и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о 30 Вперед 20 Вперед 20 Направо 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499"/>
              </a:spcBef>
              <a:buClr>
                <a:srgbClr val="5f5f5f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и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и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0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ед 40 Направо 27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ая фигура появится на экра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d0505"/>
                </a:solidFill>
                <a:latin typeface="Arial Black"/>
              </a:rPr>
              <a:t>Исполнитель Переливашка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ет систему коман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38080" y="2438280"/>
          <a:ext cx="7543800" cy="2766960"/>
        </p:xfrm>
        <a:graphic>
          <a:graphicData uri="http://schemas.openxmlformats.org/drawingml/2006/table">
            <a:tbl>
              <a:tblPr/>
              <a:tblGrid>
                <a:gridCol w="236232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коман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 исполн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олнить сосуд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олнить сосуд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лить из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лить из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лить из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лить из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838080" y="54100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олучить 2 л в одной из ёмкостей, если объём сосу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вен 4л, а объём сосу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3 л, используя не более 4 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Исполнитель Кузнечик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ёт на числовой оси и может выполнять следующие коман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е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а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переменны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целые положительные чи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естно, что Кузнечик начал путь из 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выполнил программу из 40 команд, среди которых команд «Назад 3» оказалось на 4 больше, чем команд «вперед 5». Какую одну команду необходимо выполнить Кузнечику, чтобы вернуться в точку 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Исполнитель Процессор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ячейках с именам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анит целые числа. СКИ определяется таблиц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0880" y="2514600"/>
          <a:ext cx="8229600" cy="2703600"/>
        </p:xfrm>
        <a:graphic>
          <a:graphicData uri="http://schemas.openxmlformats.org/drawingml/2006/table">
            <a:tbl>
              <a:tblPr/>
              <a:tblGrid>
                <a:gridCol w="1946520"/>
                <a:gridCol w="6283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 исполн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n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числ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ячейку с имене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 содержимого ячейки с имене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экр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Y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имое ячейк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меняется суммой данных, содержащихся в ячейка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при этом содержимое ячеек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стаётся неизменн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685800" y="56386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5486400"/>
            <a:ext cx="807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числа будут выведены на экран после выполнения кома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-3A ?5B ?6C ABC CAB BCA ACB =B =C =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Исполнитель Умножитель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Имеет две команды, которым присвоены номер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5f5f5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ычти 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5f5f5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умножь на 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Запишите порядок команд (не более 5) получени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числа 18 из числа 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d0505"/>
                </a:solidFill>
                <a:latin typeface="Arial Black"/>
              </a:rPr>
              <a:t>Исполнитель Утроитель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Имеет две команды, которым присвоены номер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5f5f5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вычти 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5f5f5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умножь на 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Запишите порядок команд (не более 5) получ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5f5f5f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числа 25 из числа 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5f5f5f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числа 13 из числа 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5f5f5f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числа 10 из числа 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5f5f5f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числа 62 из числа 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Исполнитель Калькулятор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Имеет две команды, которым присвоены номер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5f5f5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ычти 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5f5f5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умножь на 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Запишите порядок команд (не более 6) получени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числа 43 из числа 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Исполнитель Компас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дит по клетчатому полю, переходя по одной из кома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2438280"/>
          <a:ext cx="7543800" cy="1994040"/>
        </p:xfrm>
        <a:graphic>
          <a:graphicData uri="http://schemas.openxmlformats.org/drawingml/2006/table">
            <a:tbl>
              <a:tblPr/>
              <a:tblGrid>
                <a:gridCol w="2209680"/>
                <a:gridCol w="5334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 исполн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рх в соседнюю клет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из в соседнюю клет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ево в соседнюю клет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раво в соседнюю клет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762120" y="4724280"/>
            <a:ext cx="7391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ас выполнил следующую последовательность коман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г Юг Запад Север Восток Восток Восток Се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ажите наименьшее число команд, которые исполнитель должен выполнить, чтобы оказаться в начальной клет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d0505"/>
                </a:solidFill>
                <a:latin typeface="Arial Black"/>
              </a:rPr>
              <a:t>Исполнитель </a:t>
            </a: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reator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ет систему коман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2438280"/>
          <a:ext cx="7315200" cy="2362320"/>
        </p:xfrm>
        <a:graphic>
          <a:graphicData uri="http://schemas.openxmlformats.org/drawingml/2006/table">
            <a:tbl>
              <a:tblPr/>
              <a:tblGrid>
                <a:gridCol w="2286000"/>
                <a:gridCol w="502920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коман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 исполн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ть файл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.d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ть каталог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ть каталог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йти в созданный катал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838080" y="510552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ть алгоритм создания на пустом диске фай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\subject\biology\lab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09</cp:lastModifiedBy>
  <dcterms:modified xsi:type="dcterms:W3CDTF">2011-04-05T15:13:4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